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0.png" ContentType="image/png"/>
  <Override PartName="/ppt/media/image47.png" ContentType="image/png"/>
  <Override PartName="/ppt/media/image10.png" ContentType="image/png"/>
  <Override PartName="/ppt/media/image78.wmf" ContentType="image/x-wmf"/>
  <Override PartName="/ppt/media/image5.wmf" ContentType="image/x-wmf"/>
  <Override PartName="/ppt/media/image54.wmf" ContentType="image/x-wmf"/>
  <Override PartName="/ppt/media/image55.wmf" ContentType="image/x-wmf"/>
  <Override PartName="/ppt/media/image56.wmf" ContentType="image/x-wmf"/>
  <Override PartName="/ppt/media/image57.wmf" ContentType="image/x-wmf"/>
  <Override PartName="/ppt/media/image17.png" ContentType="image/png"/>
  <Override PartName="/ppt/media/image58.wmf" ContentType="image/x-wmf"/>
  <Override PartName="/ppt/media/image18.png" ContentType="image/png"/>
  <Override PartName="/ppt/media/image59.wmf" ContentType="image/x-wmf"/>
  <Override PartName="/ppt/media/image19.png" ContentType="image/png"/>
  <Override PartName="/ppt/media/image23.png" ContentType="image/png"/>
  <Override PartName="/ppt/media/image63.wmf" ContentType="image/x-wmf"/>
  <Override PartName="/ppt/media/image28.png" ContentType="image/png"/>
  <Override PartName="/ppt/media/image68.wmf" ContentType="image/x-wmf"/>
  <Override PartName="/ppt/media/image29.png" ContentType="image/png"/>
  <Override PartName="/ppt/media/image69.wmf" ContentType="image/x-wmf"/>
  <Override PartName="/ppt/media/image62.wmf" ContentType="image/x-wmf"/>
  <Override PartName="/ppt/media/image22.png" ContentType="image/png"/>
  <Override PartName="/ppt/media/image77.wmf" ContentType="image/x-wmf"/>
  <Override PartName="/ppt/media/image65.wmf" ContentType="image/x-wmf"/>
  <Override PartName="/ppt/media/image25.png" ContentType="image/png"/>
  <Override PartName="/ppt/media/image21.png" ContentType="image/png"/>
  <Override PartName="/ppt/media/image39.png" ContentType="image/png"/>
  <Override PartName="/ppt/media/image61.wmf" ContentType="image/x-wmf"/>
  <Override PartName="/ppt/media/image76.wmf" ContentType="image/x-wmf"/>
  <Override PartName="/ppt/media/image64.wmf" ContentType="image/x-wmf"/>
  <Override PartName="/ppt/media/image24.png" ContentType="image/png"/>
  <Override PartName="/ppt/media/image20.png" ContentType="image/png"/>
  <Override PartName="/ppt/media/image75.wmf" ContentType="image/x-wmf"/>
  <Override PartName="/ppt/media/image74.wmf" ContentType="image/x-wmf"/>
  <Override PartName="/ppt/media/image16.png" ContentType="image/png"/>
  <Override PartName="/ppt/media/image4.png" ContentType="image/png"/>
  <Override PartName="/ppt/media/image34.png" ContentType="image/png"/>
  <Override PartName="/ppt/media/image73.wmf" ContentType="image/x-wmf"/>
  <Override PartName="/ppt/media/image15.png" ContentType="image/png"/>
  <Override PartName="/ppt/media/image3.png" ContentType="image/png"/>
  <Override PartName="/ppt/media/image33.png" ContentType="image/png"/>
  <Override PartName="/ppt/media/image72.wmf" ContentType="image/x-wmf"/>
  <Override PartName="/ppt/media/image14.png" ContentType="image/png"/>
  <Override PartName="/ppt/media/image2.png" ContentType="image/png"/>
  <Override PartName="/ppt/media/image32.png" ContentType="image/png"/>
  <Override PartName="/ppt/media/image67.wmf" ContentType="image/x-wmf"/>
  <Override PartName="/ppt/media/image27.png" ContentType="image/png"/>
  <Override PartName="/ppt/media/image66.wmf" ContentType="image/x-wmf"/>
  <Override PartName="/ppt/media/image26.png" ContentType="image/png"/>
  <Override PartName="/ppt/media/image31.png" ContentType="image/png"/>
  <Override PartName="/ppt/media/image9.png" ContentType="image/png"/>
  <Override PartName="/ppt/media/image79.wmf" ContentType="image/x-wmf"/>
  <Override PartName="/ppt/media/image11.png" ContentType="image/png"/>
  <Override PartName="/ppt/media/image48.png" ContentType="image/png"/>
  <Override PartName="/ppt/media/image70.wmf" ContentType="image/x-wmf"/>
  <Override PartName="/ppt/media/image6.wmf" ContentType="image/x-wmf"/>
  <Override PartName="/ppt/media/image12.png" ContentType="image/png"/>
  <Override PartName="/ppt/media/image71.wmf" ContentType="image/x-wmf"/>
  <Override PartName="/ppt/media/image49.png" ContentType="image/png"/>
  <Override PartName="/ppt/media/image7.wmf" ContentType="image/x-wmf"/>
  <Override PartName="/ppt/media/image8.png" ContentType="image/png"/>
  <Override PartName="/ppt/media/image60.wmf" ContentType="image/x-wmf"/>
  <Override PartName="/ppt/media/image38.png" ContentType="image/png"/>
  <Override PartName="/ppt/media/image1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3358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335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335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335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335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335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335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335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3358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3358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335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335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335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335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335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335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335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3358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>
            <a:off x="1066680" y="2590920"/>
            <a:ext cx="6172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1066680" y="4267080"/>
            <a:ext cx="5029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image" Target="../media/image57.wmf"/><Relationship Id="rId5" Type="http://schemas.openxmlformats.org/officeDocument/2006/relationships/image" Target="../media/image58.wmf"/><Relationship Id="rId6" Type="http://schemas.openxmlformats.org/officeDocument/2006/relationships/image" Target="../media/image54.wmf"/><Relationship Id="rId7" Type="http://schemas.openxmlformats.org/officeDocument/2006/relationships/image" Target="../media/image54.wmf"/><Relationship Id="rId8" Type="http://schemas.openxmlformats.org/officeDocument/2006/relationships/image" Target="../media/image59.wmf"/><Relationship Id="rId9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image" Target="../media/image64.wmf"/><Relationship Id="rId6" Type="http://schemas.openxmlformats.org/officeDocument/2006/relationships/image" Target="../media/image65.wmf"/><Relationship Id="rId7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image" Target="../media/image68.wmf"/><Relationship Id="rId4" Type="http://schemas.openxmlformats.org/officeDocument/2006/relationships/image" Target="../media/image69.wmf"/><Relationship Id="rId5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72.wmf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image" Target="../media/image75.wmf"/><Relationship Id="rId7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7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22860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Oracle Projects Suite- Security Options </a:t>
            </a: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(A security journey from Forms to HTML)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HTML vs. Forms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odules are primarily designed for HTML others for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8534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MS Project Security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to enable MS Project Secu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_AMG_RESOURCE_INFO_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column value that receives a “Y” indicates that MS Project integration will receive the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fault value is “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Personalizations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 to enable Personal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“Personalize Self-Service Defn” profile option = “Ye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where a Personalization i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Personalize Page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appropriate Pers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the personalization to any of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Oracle Project Costing…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-76680" y="3884400"/>
            <a:ext cx="487692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Projects from templ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with multiple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 cost via a W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 cost against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4495680" y="3946680"/>
            <a:ext cx="47246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den/Allocate/Transfer Cos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Commitme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ll Down featur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ize Ass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Account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Group 5"/>
          <p:cNvGrpSpPr/>
          <p:nvPr/>
        </p:nvGrpSpPr>
        <p:grpSpPr>
          <a:xfrm>
            <a:off x="0" y="1371600"/>
            <a:ext cx="9144000" cy="2438280"/>
            <a:chOff x="0" y="1371600"/>
            <a:chExt cx="9144000" cy="2438280"/>
          </a:xfrm>
        </p:grpSpPr>
        <p:sp>
          <p:nvSpPr>
            <p:cNvPr id="470" name="AutoShape 6"/>
            <p:cNvSpPr/>
            <p:nvPr/>
          </p:nvSpPr>
          <p:spPr>
            <a:xfrm>
              <a:off x="3581280" y="2346480"/>
              <a:ext cx="1143000" cy="1119960"/>
            </a:xfrm>
            <a:prstGeom prst="can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dify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AutoShape 7"/>
            <p:cNvSpPr/>
            <p:nvPr/>
          </p:nvSpPr>
          <p:spPr>
            <a:xfrm>
              <a:off x="5562720" y="2293920"/>
              <a:ext cx="1523880" cy="659160"/>
            </a:xfrm>
            <a:prstGeom prst="flowChartManualInpu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AutoShape 8"/>
            <p:cNvSpPr/>
            <p:nvPr/>
          </p:nvSpPr>
          <p:spPr>
            <a:xfrm>
              <a:off x="5562720" y="2953080"/>
              <a:ext cx="1523880" cy="658800"/>
            </a:xfrm>
            <a:prstGeom prst="flowChartManualInpu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AutoShape 9"/>
            <p:cNvSpPr/>
            <p:nvPr/>
          </p:nvSpPr>
          <p:spPr>
            <a:xfrm>
              <a:off x="7162920" y="2293920"/>
              <a:ext cx="1523880" cy="659160"/>
            </a:xfrm>
            <a:prstGeom prst="flowChartManualInpu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r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arty App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AutoShape 10"/>
            <p:cNvSpPr/>
            <p:nvPr/>
          </p:nvSpPr>
          <p:spPr>
            <a:xfrm>
              <a:off x="7162920" y="2953080"/>
              <a:ext cx="1523880" cy="658800"/>
            </a:xfrm>
            <a:prstGeom prst="flowChartManualInput">
              <a:avLst/>
            </a:prstGeom>
            <a:solidFill>
              <a:srgbClr val="e4fc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AutoShape 11"/>
            <p:cNvSpPr/>
            <p:nvPr/>
          </p:nvSpPr>
          <p:spPr>
            <a:xfrm>
              <a:off x="4800600" y="2280240"/>
              <a:ext cx="609480" cy="1186200"/>
            </a:xfrm>
            <a:prstGeom prst="rightArrow">
              <a:avLst>
                <a:gd name="adj1" fmla="val 59259"/>
                <a:gd name="adj2" fmla="val 58593"/>
              </a:avLst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AutoShape 12"/>
            <p:cNvSpPr/>
            <p:nvPr/>
          </p:nvSpPr>
          <p:spPr>
            <a:xfrm>
              <a:off x="76320" y="3018960"/>
              <a:ext cx="1295280" cy="725040"/>
            </a:xfrm>
            <a:prstGeom prst="flowChartDocumen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AutoShape 13"/>
            <p:cNvSpPr/>
            <p:nvPr/>
          </p:nvSpPr>
          <p:spPr>
            <a:xfrm>
              <a:off x="2895480" y="2293920"/>
              <a:ext cx="609840" cy="1186200"/>
            </a:xfrm>
            <a:prstGeom prst="rightArrow">
              <a:avLst>
                <a:gd name="adj1" fmla="val 59259"/>
                <a:gd name="adj2" fmla="val 5859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AutoShape 14"/>
            <p:cNvSpPr/>
            <p:nvPr/>
          </p:nvSpPr>
          <p:spPr>
            <a:xfrm>
              <a:off x="76320" y="2228040"/>
              <a:ext cx="1295280" cy="72504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&amp;L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-Expens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AutoShape 15"/>
            <p:cNvSpPr/>
            <p:nvPr/>
          </p:nvSpPr>
          <p:spPr>
            <a:xfrm>
              <a:off x="1447920" y="3018960"/>
              <a:ext cx="1295280" cy="725040"/>
            </a:xfrm>
            <a:prstGeom prst="flowChart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AutoShape 16"/>
            <p:cNvSpPr/>
            <p:nvPr/>
          </p:nvSpPr>
          <p:spPr>
            <a:xfrm>
              <a:off x="1447920" y="2228040"/>
              <a:ext cx="1295280" cy="725040"/>
            </a:xfrm>
            <a:prstGeom prst="flowChartDocumen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ntory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Text Box 17"/>
            <p:cNvSpPr/>
            <p:nvPr/>
          </p:nvSpPr>
          <p:spPr>
            <a:xfrm>
              <a:off x="762120" y="164736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 Input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18"/>
            <p:cNvSpPr/>
            <p:nvPr/>
          </p:nvSpPr>
          <p:spPr>
            <a:xfrm>
              <a:off x="6172200" y="171324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 Output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AutoShape 19"/>
            <p:cNvSpPr/>
            <p:nvPr/>
          </p:nvSpPr>
          <p:spPr>
            <a:xfrm>
              <a:off x="3276720" y="1371600"/>
              <a:ext cx="1904760" cy="856440"/>
            </a:xfrm>
            <a:prstGeom prst="cube">
              <a:avLst>
                <a:gd name="adj" fmla="val 25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acle Project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ing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0"/>
            <p:cNvSpPr/>
            <p:nvPr/>
          </p:nvSpPr>
          <p:spPr>
            <a:xfrm>
              <a:off x="0" y="3809880"/>
              <a:ext cx="9144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Oracle Project Billing…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80880" y="3793680"/>
            <a:ext cx="472464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 agreements / Fund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 Revenue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Invo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Reve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4952880" y="3794040"/>
            <a:ext cx="41148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the following billing/revenue method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4952880" y="4549680"/>
            <a:ext cx="396252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&amp;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Spen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Comple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4952880" y="5334120"/>
            <a:ext cx="28195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 method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7" descr="j0285360"/>
          <p:cNvPicPr/>
          <p:nvPr/>
        </p:nvPicPr>
        <p:blipFill>
          <a:blip r:embed="rId1"/>
          <a:stretch/>
        </p:blipFill>
        <p:spPr>
          <a:xfrm>
            <a:off x="6095880" y="1981080"/>
            <a:ext cx="465120" cy="433440"/>
          </a:xfrm>
          <a:prstGeom prst="rect">
            <a:avLst/>
          </a:prstGeom>
          <a:ln w="0">
            <a:noFill/>
          </a:ln>
        </p:spPr>
      </p:pic>
      <p:sp>
        <p:nvSpPr>
          <p:cNvPr id="491" name="AutoShape 8"/>
          <p:cNvSpPr/>
          <p:nvPr/>
        </p:nvSpPr>
        <p:spPr>
          <a:xfrm>
            <a:off x="7010280" y="1523880"/>
            <a:ext cx="1905120" cy="7635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acle Project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ll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Picture 9" descr="j0290844"/>
          <p:cNvPicPr/>
          <p:nvPr/>
        </p:nvPicPr>
        <p:blipFill>
          <a:blip r:embed="rId2"/>
          <a:stretch/>
        </p:blipFill>
        <p:spPr>
          <a:xfrm>
            <a:off x="228600" y="1641600"/>
            <a:ext cx="905040" cy="765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MCj03888760000[1]"/>
          <p:cNvPicPr/>
          <p:nvPr/>
        </p:nvPicPr>
        <p:blipFill>
          <a:blip r:embed="rId3"/>
          <a:stretch/>
        </p:blipFill>
        <p:spPr>
          <a:xfrm>
            <a:off x="685800" y="2523960"/>
            <a:ext cx="833400" cy="7048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1" descr="MCj01276820000[1]"/>
          <p:cNvPicPr/>
          <p:nvPr/>
        </p:nvPicPr>
        <p:blipFill>
          <a:blip r:embed="rId4"/>
          <a:stretch/>
        </p:blipFill>
        <p:spPr>
          <a:xfrm>
            <a:off x="3048120" y="2523960"/>
            <a:ext cx="841320" cy="8906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2" descr="MCPE03074_0000[1]"/>
          <p:cNvPicPr/>
          <p:nvPr/>
        </p:nvPicPr>
        <p:blipFill>
          <a:blip r:embed="rId5"/>
          <a:stretch/>
        </p:blipFill>
        <p:spPr>
          <a:xfrm>
            <a:off x="2743200" y="1582560"/>
            <a:ext cx="738360" cy="8794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3" descr="j0285360"/>
          <p:cNvPicPr/>
          <p:nvPr/>
        </p:nvPicPr>
        <p:blipFill>
          <a:blip r:embed="rId6"/>
          <a:stretch/>
        </p:blipFill>
        <p:spPr>
          <a:xfrm>
            <a:off x="5248440" y="1981080"/>
            <a:ext cx="466560" cy="4334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4" descr="j0285360"/>
          <p:cNvPicPr/>
          <p:nvPr/>
        </p:nvPicPr>
        <p:blipFill>
          <a:blip r:embed="rId7"/>
          <a:stretch/>
        </p:blipFill>
        <p:spPr>
          <a:xfrm>
            <a:off x="5678640" y="1447920"/>
            <a:ext cx="493560" cy="4712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5" descr="BD18212_"/>
          <p:cNvPicPr/>
          <p:nvPr/>
        </p:nvPicPr>
        <p:blipFill>
          <a:blip r:embed="rId8"/>
          <a:stretch/>
        </p:blipFill>
        <p:spPr>
          <a:xfrm>
            <a:off x="7391520" y="2263680"/>
            <a:ext cx="1092240" cy="77472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16"/>
          <p:cNvSpPr/>
          <p:nvPr/>
        </p:nvSpPr>
        <p:spPr>
          <a:xfrm>
            <a:off x="1066680" y="18763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ing / Agreemen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17"/>
          <p:cNvSpPr/>
          <p:nvPr/>
        </p:nvSpPr>
        <p:spPr>
          <a:xfrm>
            <a:off x="1523880" y="26416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enue Budgets and Forecas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8"/>
          <p:cNvSpPr/>
          <p:nvPr/>
        </p:nvSpPr>
        <p:spPr>
          <a:xfrm>
            <a:off x="3809880" y="26416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ate Revenu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19"/>
          <p:cNvSpPr/>
          <p:nvPr/>
        </p:nvSpPr>
        <p:spPr>
          <a:xfrm>
            <a:off x="3505320" y="17589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ate Invoic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20"/>
          <p:cNvSpPr/>
          <p:nvPr/>
        </p:nvSpPr>
        <p:spPr>
          <a:xfrm>
            <a:off x="5181480" y="2438280"/>
            <a:ext cx="152424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project/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or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ll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21"/>
          <p:cNvSpPr/>
          <p:nvPr/>
        </p:nvSpPr>
        <p:spPr>
          <a:xfrm>
            <a:off x="7010280" y="296856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ate AutoAccount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22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Oracle Project Management…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-360" y="3595320"/>
            <a:ext cx="579132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, manage and ver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 progress agains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with MS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budgets / forecasts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real time project overview v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4724280" y="3581280"/>
            <a:ext cx="441972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 issues at a project or task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Gantt char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work plan dependencie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 change order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6858000" y="5181480"/>
            <a:ext cx="1905120" cy="990720"/>
          </a:xfrm>
          <a:prstGeom prst="cube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racle Project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nagemen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icture 6" descr="j0233332"/>
          <p:cNvPicPr/>
          <p:nvPr/>
        </p:nvPicPr>
        <p:blipFill>
          <a:blip r:embed="rId1"/>
          <a:stretch/>
        </p:blipFill>
        <p:spPr>
          <a:xfrm>
            <a:off x="228600" y="2560680"/>
            <a:ext cx="1028880" cy="8254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j0198523"/>
          <p:cNvPicPr/>
          <p:nvPr/>
        </p:nvPicPr>
        <p:blipFill>
          <a:blip r:embed="rId2"/>
          <a:stretch/>
        </p:blipFill>
        <p:spPr>
          <a:xfrm>
            <a:off x="3352680" y="2374920"/>
            <a:ext cx="1447920" cy="10112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MCj04042770000[1]"/>
          <p:cNvPicPr/>
          <p:nvPr/>
        </p:nvPicPr>
        <p:blipFill>
          <a:blip r:embed="rId3"/>
          <a:stretch/>
        </p:blipFill>
        <p:spPr>
          <a:xfrm>
            <a:off x="8142120" y="1360440"/>
            <a:ext cx="773280" cy="6890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9" descr="j0213415"/>
          <p:cNvPicPr/>
          <p:nvPr/>
        </p:nvPicPr>
        <p:blipFill>
          <a:blip r:embed="rId4"/>
          <a:stretch/>
        </p:blipFill>
        <p:spPr>
          <a:xfrm>
            <a:off x="5048280" y="1360440"/>
            <a:ext cx="1047600" cy="8557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0" descr="j0215316"/>
          <p:cNvPicPr/>
          <p:nvPr/>
        </p:nvPicPr>
        <p:blipFill>
          <a:blip r:embed="rId5"/>
          <a:stretch/>
        </p:blipFill>
        <p:spPr>
          <a:xfrm>
            <a:off x="1800360" y="1425600"/>
            <a:ext cx="1095120" cy="5414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1" descr="j0215479"/>
          <p:cNvPicPr/>
          <p:nvPr/>
        </p:nvPicPr>
        <p:blipFill>
          <a:blip r:embed="rId6"/>
          <a:stretch/>
        </p:blipFill>
        <p:spPr>
          <a:xfrm>
            <a:off x="6629400" y="2471760"/>
            <a:ext cx="984240" cy="838080"/>
          </a:xfrm>
          <a:prstGeom prst="rect">
            <a:avLst/>
          </a:prstGeom>
          <a:ln w="0">
            <a:noFill/>
          </a:ln>
        </p:spPr>
      </p:pic>
      <p:sp>
        <p:nvSpPr>
          <p:cNvPr id="516" name="AutoShape 12"/>
          <p:cNvSpPr/>
          <p:nvPr/>
        </p:nvSpPr>
        <p:spPr>
          <a:xfrm>
            <a:off x="1600200" y="2274840"/>
            <a:ext cx="1447920" cy="1044720"/>
          </a:xfrm>
          <a:prstGeom prst="upArrowCallout">
            <a:avLst>
              <a:gd name="adj1" fmla="val 34652"/>
              <a:gd name="adj2" fmla="val 34649"/>
              <a:gd name="adj3" fmla="val 16667"/>
              <a:gd name="adj4" fmla="val 6666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grate wit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S Projec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13"/>
          <p:cNvSpPr/>
          <p:nvPr/>
        </p:nvSpPr>
        <p:spPr>
          <a:xfrm>
            <a:off x="76320" y="1360440"/>
            <a:ext cx="1447560" cy="1044720"/>
          </a:xfrm>
          <a:prstGeom prst="downArrowCallout">
            <a:avLst>
              <a:gd name="adj1" fmla="val 34643"/>
              <a:gd name="adj2" fmla="val 34640"/>
              <a:gd name="adj3" fmla="val 16667"/>
              <a:gd name="adj4" fmla="val 6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pla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4"/>
          <p:cNvSpPr/>
          <p:nvPr/>
        </p:nvSpPr>
        <p:spPr>
          <a:xfrm>
            <a:off x="3200400" y="1295280"/>
            <a:ext cx="1447920" cy="1176480"/>
          </a:xfrm>
          <a:prstGeom prst="downArrowCallout">
            <a:avLst>
              <a:gd name="adj1" fmla="val 30771"/>
              <a:gd name="adj2" fmla="val 30768"/>
              <a:gd name="adj3" fmla="val 27083"/>
              <a:gd name="adj4" fmla="val 6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dge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ecas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5"/>
          <p:cNvSpPr/>
          <p:nvPr/>
        </p:nvSpPr>
        <p:spPr>
          <a:xfrm>
            <a:off x="4876920" y="2340000"/>
            <a:ext cx="1447560" cy="1046160"/>
          </a:xfrm>
          <a:prstGeom prst="upArrowCallout">
            <a:avLst>
              <a:gd name="adj1" fmla="val 34595"/>
              <a:gd name="adj2" fmla="val 34592"/>
              <a:gd name="adj3" fmla="val 16667"/>
              <a:gd name="adj4" fmla="val 6666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ign task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6"/>
          <p:cNvSpPr/>
          <p:nvPr/>
        </p:nvSpPr>
        <p:spPr>
          <a:xfrm>
            <a:off x="7620120" y="2274840"/>
            <a:ext cx="1447560" cy="1044720"/>
          </a:xfrm>
          <a:prstGeom prst="upArrowCallout">
            <a:avLst>
              <a:gd name="adj1" fmla="val 34643"/>
              <a:gd name="adj2" fmla="val 34640"/>
              <a:gd name="adj3" fmla="val 16667"/>
              <a:gd name="adj4" fmla="val 6666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iew Gant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har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7"/>
          <p:cNvSpPr/>
          <p:nvPr/>
        </p:nvSpPr>
        <p:spPr>
          <a:xfrm>
            <a:off x="6248520" y="1295280"/>
            <a:ext cx="1447560" cy="1176480"/>
          </a:xfrm>
          <a:prstGeom prst="downArrowCallout">
            <a:avLst>
              <a:gd name="adj1" fmla="val 30763"/>
              <a:gd name="adj2" fmla="val 30760"/>
              <a:gd name="adj3" fmla="val 27083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M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rtal 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shboar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18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Oracle Project Collaboration…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3641400"/>
            <a:ext cx="868680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secure collaborative work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bility to assigned tasks, issues and delive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document repository with versioning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Oracle Projec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4"/>
          <p:cNvGrpSpPr/>
          <p:nvPr/>
        </p:nvGrpSpPr>
        <p:grpSpPr>
          <a:xfrm>
            <a:off x="0" y="1447920"/>
            <a:ext cx="9144000" cy="2209680"/>
            <a:chOff x="0" y="1447920"/>
            <a:chExt cx="9144000" cy="2209680"/>
          </a:xfrm>
        </p:grpSpPr>
        <p:sp>
          <p:nvSpPr>
            <p:cNvPr id="526" name="AutoShape 5"/>
            <p:cNvSpPr/>
            <p:nvPr/>
          </p:nvSpPr>
          <p:spPr>
            <a:xfrm>
              <a:off x="7010280" y="1510560"/>
              <a:ext cx="1905120" cy="820800"/>
            </a:xfrm>
            <a:prstGeom prst="cube">
              <a:avLst>
                <a:gd name="adj" fmla="val 25000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 Project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llaboratio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7" name="Picture 6" descr="j0240361"/>
            <p:cNvPicPr/>
            <p:nvPr/>
          </p:nvPicPr>
          <p:blipFill>
            <a:blip r:embed="rId1"/>
            <a:stretch/>
          </p:blipFill>
          <p:spPr>
            <a:xfrm>
              <a:off x="0" y="2584080"/>
              <a:ext cx="1825560" cy="7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Picture 7" descr="j0288976"/>
            <p:cNvPicPr/>
            <p:nvPr/>
          </p:nvPicPr>
          <p:blipFill>
            <a:blip r:embed="rId2"/>
            <a:stretch/>
          </p:blipFill>
          <p:spPr>
            <a:xfrm>
              <a:off x="2819520" y="1510560"/>
              <a:ext cx="1893600" cy="103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8" descr="j0186168"/>
            <p:cNvPicPr/>
            <p:nvPr/>
          </p:nvPicPr>
          <p:blipFill>
            <a:blip r:embed="rId3"/>
            <a:stretch/>
          </p:blipFill>
          <p:spPr>
            <a:xfrm>
              <a:off x="5334120" y="2584080"/>
              <a:ext cx="799920" cy="94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9" descr="j0239135"/>
            <p:cNvPicPr/>
            <p:nvPr/>
          </p:nvPicPr>
          <p:blipFill>
            <a:blip r:embed="rId4"/>
            <a:stretch/>
          </p:blipFill>
          <p:spPr>
            <a:xfrm>
              <a:off x="8077320" y="2561760"/>
              <a:ext cx="1035000" cy="90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AutoShape 10"/>
            <p:cNvSpPr/>
            <p:nvPr/>
          </p:nvSpPr>
          <p:spPr>
            <a:xfrm>
              <a:off x="533520" y="1447920"/>
              <a:ext cx="2286000" cy="694080"/>
            </a:xfrm>
            <a:prstGeom prst="cloudCallout">
              <a:avLst>
                <a:gd name="adj1" fmla="val -33333"/>
                <a:gd name="adj2" fmla="val 10454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aborative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orkspace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AutoShape 11"/>
            <p:cNvSpPr/>
            <p:nvPr/>
          </p:nvSpPr>
          <p:spPr>
            <a:xfrm>
              <a:off x="2209680" y="2710440"/>
              <a:ext cx="2590920" cy="883800"/>
            </a:xfrm>
            <a:prstGeom prst="cloudCallout">
              <a:avLst>
                <a:gd name="adj1" fmla="val 17648"/>
                <a:gd name="adj2" fmla="val -87648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sibility to tasks, issues and deliverables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AutoShape 12"/>
            <p:cNvSpPr/>
            <p:nvPr/>
          </p:nvSpPr>
          <p:spPr>
            <a:xfrm>
              <a:off x="4495680" y="1447920"/>
              <a:ext cx="2286000" cy="694080"/>
            </a:xfrm>
            <a:prstGeom prst="cloudCallout">
              <a:avLst>
                <a:gd name="adj1" fmla="val 1388"/>
                <a:gd name="adj2" fmla="val 107763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e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TML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AutoShape 13"/>
            <p:cNvSpPr/>
            <p:nvPr/>
          </p:nvSpPr>
          <p:spPr>
            <a:xfrm>
              <a:off x="6172200" y="2710440"/>
              <a:ext cx="1981080" cy="631440"/>
            </a:xfrm>
            <a:prstGeom prst="cloudCallout">
              <a:avLst>
                <a:gd name="adj1" fmla="val 69310"/>
                <a:gd name="adj2" fmla="val -56458"/>
              </a:avLst>
            </a:prstGeom>
            <a:solidFill>
              <a:srgbClr val="cc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cument Versioning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14"/>
            <p:cNvSpPr/>
            <p:nvPr/>
          </p:nvSpPr>
          <p:spPr>
            <a:xfrm>
              <a:off x="0" y="3657600"/>
              <a:ext cx="9144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Oracle Resource Management…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0" y="3870000"/>
            <a:ext cx="457200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 resources and avail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minate / Assign resources to a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for open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financ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ca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0" y="3870360"/>
            <a:ext cx="472428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by all members of your project based organiz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organization / resource utiliz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ing team schedul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5"/>
          <p:cNvSpPr/>
          <p:nvPr/>
        </p:nvSpPr>
        <p:spPr>
          <a:xfrm>
            <a:off x="7086600" y="1143000"/>
            <a:ext cx="1905120" cy="950760"/>
          </a:xfrm>
          <a:prstGeom prst="cube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racle Project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nagemen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228600" y="2644920"/>
            <a:ext cx="251460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pports the following functions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ject Manager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 Manger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ffing Manag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7" descr="j0240397"/>
          <p:cNvPicPr/>
          <p:nvPr/>
        </p:nvPicPr>
        <p:blipFill>
          <a:blip r:embed="rId1"/>
          <a:stretch/>
        </p:blipFill>
        <p:spPr>
          <a:xfrm>
            <a:off x="304920" y="1539720"/>
            <a:ext cx="1760400" cy="1165320"/>
          </a:xfrm>
          <a:prstGeom prst="rect">
            <a:avLst/>
          </a:prstGeom>
          <a:ln w="0">
            <a:noFill/>
          </a:ln>
        </p:spPr>
      </p:pic>
      <p:sp>
        <p:nvSpPr>
          <p:cNvPr id="542" name="Line 8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9" descr="j0286961"/>
          <p:cNvPicPr/>
          <p:nvPr/>
        </p:nvPicPr>
        <p:blipFill>
          <a:blip r:embed="rId2"/>
          <a:stretch/>
        </p:blipFill>
        <p:spPr>
          <a:xfrm>
            <a:off x="7467480" y="2398680"/>
            <a:ext cx="952560" cy="86508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10"/>
          <p:cNvSpPr/>
          <p:nvPr/>
        </p:nvSpPr>
        <p:spPr>
          <a:xfrm>
            <a:off x="7315200" y="3208320"/>
            <a:ext cx="137160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lculate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tilizatio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11" descr="MCj01988620000[1]"/>
          <p:cNvPicPr/>
          <p:nvPr/>
        </p:nvPicPr>
        <p:blipFill>
          <a:blip r:embed="rId3"/>
          <a:stretch/>
        </p:blipFill>
        <p:spPr>
          <a:xfrm>
            <a:off x="2590920" y="1539720"/>
            <a:ext cx="1076040" cy="79884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12"/>
          <p:cNvSpPr/>
          <p:nvPr/>
        </p:nvSpPr>
        <p:spPr>
          <a:xfrm>
            <a:off x="2362320" y="2336760"/>
            <a:ext cx="1676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age team schedule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13" descr="j0195768"/>
          <p:cNvPicPr/>
          <p:nvPr/>
        </p:nvPicPr>
        <p:blipFill>
          <a:blip r:embed="rId4"/>
          <a:stretch/>
        </p:blipFill>
        <p:spPr>
          <a:xfrm>
            <a:off x="2590920" y="2889360"/>
            <a:ext cx="1193760" cy="8413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14"/>
          <p:cNvSpPr/>
          <p:nvPr/>
        </p:nvSpPr>
        <p:spPr>
          <a:xfrm>
            <a:off x="3657600" y="307332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ck resources and availabil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Picture 15" descr="MCj02311680000[1]"/>
          <p:cNvPicPr/>
          <p:nvPr/>
        </p:nvPicPr>
        <p:blipFill>
          <a:blip r:embed="rId5"/>
          <a:stretch/>
        </p:blipFill>
        <p:spPr>
          <a:xfrm>
            <a:off x="5334120" y="1846440"/>
            <a:ext cx="1560240" cy="100152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16"/>
          <p:cNvSpPr/>
          <p:nvPr/>
        </p:nvSpPr>
        <p:spPr>
          <a:xfrm>
            <a:off x="5410080" y="270504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minate and assign resources to a projec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17" descr="j0174125"/>
          <p:cNvPicPr/>
          <p:nvPr/>
        </p:nvPicPr>
        <p:blipFill>
          <a:blip r:embed="rId6"/>
          <a:stretch/>
        </p:blipFill>
        <p:spPr>
          <a:xfrm>
            <a:off x="4038480" y="1576440"/>
            <a:ext cx="1117800" cy="77940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18"/>
          <p:cNvSpPr/>
          <p:nvPr/>
        </p:nvSpPr>
        <p:spPr>
          <a:xfrm>
            <a:off x="3886200" y="2251080"/>
            <a:ext cx="167652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nerat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ecast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Freeform 19"/>
          <p:cNvSpPr/>
          <p:nvPr/>
        </p:nvSpPr>
        <p:spPr>
          <a:xfrm>
            <a:off x="2108160" y="1468440"/>
            <a:ext cx="5435640" cy="2300400"/>
          </a:xfrm>
          <a:custGeom>
            <a:avLst/>
            <a:gdLst>
              <a:gd name="textAreaLeft" fmla="*/ 0 w 5435640"/>
              <a:gd name="textAreaRight" fmla="*/ 5435640 w 5435640"/>
              <a:gd name="textAreaTop" fmla="*/ 0 h 2300400"/>
              <a:gd name="textAreaBottom" fmla="*/ 2300760 h 2300400"/>
            </a:gdLst>
            <a:ahLst/>
            <a:rect l="textAreaLeft" t="textAreaTop" r="textAreaRight" b="textAreaBottom"/>
            <a:pathLst>
              <a:path w="3424" h="1800">
                <a:moveTo>
                  <a:pt x="160" y="56"/>
                </a:moveTo>
                <a:cubicBezTo>
                  <a:pt x="160" y="208"/>
                  <a:pt x="160" y="360"/>
                  <a:pt x="160" y="488"/>
                </a:cubicBezTo>
                <a:cubicBezTo>
                  <a:pt x="160" y="616"/>
                  <a:pt x="144" y="744"/>
                  <a:pt x="160" y="824"/>
                </a:cubicBezTo>
                <a:cubicBezTo>
                  <a:pt x="176" y="904"/>
                  <a:pt x="256" y="896"/>
                  <a:pt x="256" y="968"/>
                </a:cubicBezTo>
                <a:cubicBezTo>
                  <a:pt x="256" y="1040"/>
                  <a:pt x="176" y="1168"/>
                  <a:pt x="160" y="1256"/>
                </a:cubicBezTo>
                <a:cubicBezTo>
                  <a:pt x="144" y="1344"/>
                  <a:pt x="184" y="1432"/>
                  <a:pt x="160" y="1496"/>
                </a:cubicBezTo>
                <a:cubicBezTo>
                  <a:pt x="136" y="1560"/>
                  <a:pt x="0" y="1600"/>
                  <a:pt x="16" y="1640"/>
                </a:cubicBezTo>
                <a:cubicBezTo>
                  <a:pt x="32" y="1680"/>
                  <a:pt x="176" y="1712"/>
                  <a:pt x="256" y="1736"/>
                </a:cubicBezTo>
                <a:cubicBezTo>
                  <a:pt x="336" y="1760"/>
                  <a:pt x="408" y="1776"/>
                  <a:pt x="496" y="1784"/>
                </a:cubicBezTo>
                <a:cubicBezTo>
                  <a:pt x="584" y="1792"/>
                  <a:pt x="680" y="1784"/>
                  <a:pt x="784" y="1784"/>
                </a:cubicBezTo>
                <a:cubicBezTo>
                  <a:pt x="888" y="1784"/>
                  <a:pt x="896" y="1800"/>
                  <a:pt x="1120" y="1784"/>
                </a:cubicBezTo>
                <a:cubicBezTo>
                  <a:pt x="1344" y="1768"/>
                  <a:pt x="1960" y="1760"/>
                  <a:pt x="2128" y="1688"/>
                </a:cubicBezTo>
                <a:cubicBezTo>
                  <a:pt x="2296" y="1616"/>
                  <a:pt x="2176" y="1440"/>
                  <a:pt x="2128" y="1352"/>
                </a:cubicBezTo>
                <a:cubicBezTo>
                  <a:pt x="2080" y="1264"/>
                  <a:pt x="1968" y="1200"/>
                  <a:pt x="1840" y="1160"/>
                </a:cubicBezTo>
                <a:cubicBezTo>
                  <a:pt x="1712" y="1120"/>
                  <a:pt x="1464" y="1160"/>
                  <a:pt x="1360" y="1112"/>
                </a:cubicBezTo>
                <a:cubicBezTo>
                  <a:pt x="1256" y="1064"/>
                  <a:pt x="1248" y="992"/>
                  <a:pt x="1216" y="872"/>
                </a:cubicBezTo>
                <a:cubicBezTo>
                  <a:pt x="1184" y="752"/>
                  <a:pt x="1168" y="528"/>
                  <a:pt x="1168" y="392"/>
                </a:cubicBezTo>
                <a:cubicBezTo>
                  <a:pt x="1168" y="256"/>
                  <a:pt x="1168" y="112"/>
                  <a:pt x="1216" y="56"/>
                </a:cubicBezTo>
                <a:cubicBezTo>
                  <a:pt x="1264" y="0"/>
                  <a:pt x="1360" y="56"/>
                  <a:pt x="1456" y="56"/>
                </a:cubicBezTo>
                <a:cubicBezTo>
                  <a:pt x="1552" y="56"/>
                  <a:pt x="1680" y="48"/>
                  <a:pt x="1792" y="56"/>
                </a:cubicBezTo>
                <a:cubicBezTo>
                  <a:pt x="1904" y="64"/>
                  <a:pt x="2088" y="48"/>
                  <a:pt x="2128" y="104"/>
                </a:cubicBezTo>
                <a:cubicBezTo>
                  <a:pt x="2168" y="160"/>
                  <a:pt x="2056" y="288"/>
                  <a:pt x="2032" y="392"/>
                </a:cubicBezTo>
                <a:cubicBezTo>
                  <a:pt x="2008" y="496"/>
                  <a:pt x="1992" y="632"/>
                  <a:pt x="1984" y="728"/>
                </a:cubicBezTo>
                <a:cubicBezTo>
                  <a:pt x="1976" y="824"/>
                  <a:pt x="1952" y="872"/>
                  <a:pt x="1984" y="968"/>
                </a:cubicBezTo>
                <a:cubicBezTo>
                  <a:pt x="2016" y="1064"/>
                  <a:pt x="2144" y="1224"/>
                  <a:pt x="2176" y="1304"/>
                </a:cubicBezTo>
                <a:cubicBezTo>
                  <a:pt x="2208" y="1384"/>
                  <a:pt x="2152" y="1384"/>
                  <a:pt x="2176" y="1448"/>
                </a:cubicBezTo>
                <a:cubicBezTo>
                  <a:pt x="2200" y="1512"/>
                  <a:pt x="2200" y="1640"/>
                  <a:pt x="2320" y="1688"/>
                </a:cubicBezTo>
                <a:cubicBezTo>
                  <a:pt x="2440" y="1736"/>
                  <a:pt x="2760" y="1736"/>
                  <a:pt x="2896" y="1736"/>
                </a:cubicBezTo>
                <a:cubicBezTo>
                  <a:pt x="3032" y="1736"/>
                  <a:pt x="3080" y="1720"/>
                  <a:pt x="3136" y="1688"/>
                </a:cubicBezTo>
                <a:cubicBezTo>
                  <a:pt x="3192" y="1656"/>
                  <a:pt x="3216" y="1624"/>
                  <a:pt x="3232" y="1544"/>
                </a:cubicBezTo>
                <a:cubicBezTo>
                  <a:pt x="3248" y="1464"/>
                  <a:pt x="3216" y="1328"/>
                  <a:pt x="3232" y="1208"/>
                </a:cubicBezTo>
                <a:cubicBezTo>
                  <a:pt x="3248" y="1088"/>
                  <a:pt x="3296" y="920"/>
                  <a:pt x="3328" y="824"/>
                </a:cubicBezTo>
                <a:cubicBezTo>
                  <a:pt x="3360" y="728"/>
                  <a:pt x="3408" y="664"/>
                  <a:pt x="3424" y="632"/>
                </a:cubicBezTo>
              </a:path>
            </a:pathLst>
          </a:custGeom>
          <a:noFill/>
          <a:ln w="28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reeform 20"/>
          <p:cNvSpPr/>
          <p:nvPr/>
        </p:nvSpPr>
        <p:spPr>
          <a:xfrm>
            <a:off x="2514600" y="2705040"/>
            <a:ext cx="1523880" cy="7164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1008" h="56">
                <a:moveTo>
                  <a:pt x="0" y="0"/>
                </a:moveTo>
                <a:cubicBezTo>
                  <a:pt x="148" y="20"/>
                  <a:pt x="296" y="40"/>
                  <a:pt x="432" y="48"/>
                </a:cubicBezTo>
                <a:cubicBezTo>
                  <a:pt x="568" y="56"/>
                  <a:pt x="720" y="56"/>
                  <a:pt x="816" y="48"/>
                </a:cubicBezTo>
                <a:cubicBezTo>
                  <a:pt x="912" y="40"/>
                  <a:pt x="976" y="8"/>
                  <a:pt x="1008" y="0"/>
                </a:cubicBezTo>
              </a:path>
            </a:pathLst>
          </a:custGeom>
          <a:noFill/>
          <a:ln w="28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reeform 21"/>
          <p:cNvSpPr/>
          <p:nvPr/>
        </p:nvSpPr>
        <p:spPr>
          <a:xfrm>
            <a:off x="38160" y="1447920"/>
            <a:ext cx="2324160" cy="2320920"/>
          </a:xfrm>
          <a:custGeom>
            <a:avLst/>
            <a:gdLst>
              <a:gd name="textAreaLeft" fmla="*/ 0 w 2324160"/>
              <a:gd name="textAreaRight" fmla="*/ 2324520 w 2324160"/>
              <a:gd name="textAreaTop" fmla="*/ 0 h 2320920"/>
              <a:gd name="textAreaBottom" fmla="*/ 2321280 h 2320920"/>
            </a:gdLst>
            <a:ahLst/>
            <a:rect l="textAreaLeft" t="textAreaTop" r="textAreaRight" b="textAreaBottom"/>
            <a:pathLst>
              <a:path w="1464" h="1816">
                <a:moveTo>
                  <a:pt x="1464" y="72"/>
                </a:moveTo>
                <a:cubicBezTo>
                  <a:pt x="1276" y="72"/>
                  <a:pt x="1088" y="72"/>
                  <a:pt x="888" y="72"/>
                </a:cubicBezTo>
                <a:cubicBezTo>
                  <a:pt x="688" y="72"/>
                  <a:pt x="408" y="0"/>
                  <a:pt x="264" y="72"/>
                </a:cubicBezTo>
                <a:cubicBezTo>
                  <a:pt x="120" y="144"/>
                  <a:pt x="48" y="272"/>
                  <a:pt x="24" y="504"/>
                </a:cubicBezTo>
                <a:cubicBezTo>
                  <a:pt x="0" y="736"/>
                  <a:pt x="112" y="1256"/>
                  <a:pt x="120" y="1464"/>
                </a:cubicBezTo>
                <a:cubicBezTo>
                  <a:pt x="128" y="1672"/>
                  <a:pt x="8" y="1696"/>
                  <a:pt x="72" y="1752"/>
                </a:cubicBezTo>
                <a:cubicBezTo>
                  <a:pt x="136" y="1808"/>
                  <a:pt x="320" y="1792"/>
                  <a:pt x="504" y="1800"/>
                </a:cubicBezTo>
                <a:cubicBezTo>
                  <a:pt x="688" y="1808"/>
                  <a:pt x="1024" y="1816"/>
                  <a:pt x="1176" y="1800"/>
                </a:cubicBezTo>
                <a:cubicBezTo>
                  <a:pt x="1328" y="1784"/>
                  <a:pt x="1376" y="1720"/>
                  <a:pt x="1416" y="1704"/>
                </a:cubicBezTo>
              </a:path>
            </a:pathLst>
          </a:custGeom>
          <a:noFill/>
          <a:ln w="28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Freeform 22"/>
          <p:cNvSpPr/>
          <p:nvPr/>
        </p:nvSpPr>
        <p:spPr>
          <a:xfrm>
            <a:off x="2336760" y="1468440"/>
            <a:ext cx="1866960" cy="71280"/>
          </a:xfrm>
          <a:custGeom>
            <a:avLst/>
            <a:gdLst>
              <a:gd name="textAreaLeft" fmla="*/ 0 w 1866960"/>
              <a:gd name="textAreaRight" fmla="*/ 1867320 w 18669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176" h="56">
                <a:moveTo>
                  <a:pt x="16" y="56"/>
                </a:moveTo>
                <a:cubicBezTo>
                  <a:pt x="28" y="36"/>
                  <a:pt x="40" y="16"/>
                  <a:pt x="64" y="8"/>
                </a:cubicBezTo>
                <a:cubicBezTo>
                  <a:pt x="88" y="0"/>
                  <a:pt x="0" y="8"/>
                  <a:pt x="160" y="8"/>
                </a:cubicBezTo>
                <a:cubicBezTo>
                  <a:pt x="320" y="8"/>
                  <a:pt x="872" y="0"/>
                  <a:pt x="1024" y="8"/>
                </a:cubicBezTo>
                <a:cubicBezTo>
                  <a:pt x="1176" y="16"/>
                  <a:pt x="1124" y="36"/>
                  <a:pt x="1072" y="56"/>
                </a:cubicBezTo>
              </a:path>
            </a:pathLst>
          </a:custGeom>
          <a:noFill/>
          <a:ln w="28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reeform 23"/>
          <p:cNvSpPr/>
          <p:nvPr/>
        </p:nvSpPr>
        <p:spPr>
          <a:xfrm>
            <a:off x="5410080" y="1539720"/>
            <a:ext cx="2133720" cy="90036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900360"/>
              <a:gd name="textAreaBottom" fmla="*/ 900720 h 900360"/>
            </a:gdLst>
            <a:ahLst/>
            <a:rect l="textAreaLeft" t="textAreaTop" r="textAreaRight" b="textAreaBottom"/>
            <a:pathLst>
              <a:path w="1296" h="704">
                <a:moveTo>
                  <a:pt x="0" y="0"/>
                </a:moveTo>
                <a:cubicBezTo>
                  <a:pt x="236" y="16"/>
                  <a:pt x="472" y="32"/>
                  <a:pt x="624" y="96"/>
                </a:cubicBezTo>
                <a:cubicBezTo>
                  <a:pt x="776" y="160"/>
                  <a:pt x="864" y="288"/>
                  <a:pt x="912" y="384"/>
                </a:cubicBezTo>
                <a:cubicBezTo>
                  <a:pt x="960" y="480"/>
                  <a:pt x="848" y="640"/>
                  <a:pt x="912" y="672"/>
                </a:cubicBezTo>
                <a:cubicBezTo>
                  <a:pt x="976" y="704"/>
                  <a:pt x="1136" y="640"/>
                  <a:pt x="1296" y="576"/>
                </a:cubicBezTo>
              </a:path>
            </a:pathLst>
          </a:custGeom>
          <a:noFill/>
          <a:ln w="28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reeform 24"/>
          <p:cNvSpPr/>
          <p:nvPr/>
        </p:nvSpPr>
        <p:spPr>
          <a:xfrm>
            <a:off x="7086600" y="2276640"/>
            <a:ext cx="1625760" cy="1441440"/>
          </a:xfrm>
          <a:custGeom>
            <a:avLst/>
            <a:gdLst>
              <a:gd name="textAreaLeft" fmla="*/ 0 w 1625760"/>
              <a:gd name="textAreaRight" fmla="*/ 1626120 w 162576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1024" h="1128">
                <a:moveTo>
                  <a:pt x="0" y="1056"/>
                </a:moveTo>
                <a:cubicBezTo>
                  <a:pt x="232" y="1076"/>
                  <a:pt x="464" y="1096"/>
                  <a:pt x="624" y="1104"/>
                </a:cubicBezTo>
                <a:cubicBezTo>
                  <a:pt x="784" y="1112"/>
                  <a:pt x="896" y="1128"/>
                  <a:pt x="960" y="1104"/>
                </a:cubicBezTo>
                <a:cubicBezTo>
                  <a:pt x="1024" y="1080"/>
                  <a:pt x="1000" y="1024"/>
                  <a:pt x="1008" y="960"/>
                </a:cubicBezTo>
                <a:cubicBezTo>
                  <a:pt x="1016" y="896"/>
                  <a:pt x="1016" y="840"/>
                  <a:pt x="1008" y="720"/>
                </a:cubicBezTo>
                <a:cubicBezTo>
                  <a:pt x="1000" y="600"/>
                  <a:pt x="992" y="344"/>
                  <a:pt x="960" y="240"/>
                </a:cubicBezTo>
                <a:cubicBezTo>
                  <a:pt x="928" y="136"/>
                  <a:pt x="936" y="136"/>
                  <a:pt x="816" y="96"/>
                </a:cubicBezTo>
                <a:cubicBezTo>
                  <a:pt x="696" y="56"/>
                  <a:pt x="468" y="28"/>
                  <a:pt x="240" y="0"/>
                </a:cubicBezTo>
              </a:path>
            </a:pathLst>
          </a:custGeom>
          <a:noFill/>
          <a:ln w="28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Oracle Project Contracts…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0" name="Picture 3" descr="j0240397"/>
          <p:cNvPicPr/>
          <p:nvPr/>
        </p:nvPicPr>
        <p:blipFill>
          <a:blip r:embed="rId1"/>
          <a:stretch/>
        </p:blipFill>
        <p:spPr>
          <a:xfrm>
            <a:off x="3276720" y="1676520"/>
            <a:ext cx="1371600" cy="11271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4305240"/>
            <a:ext cx="7772400" cy="23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the ability to manage complex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role base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the ability to track and manage custom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ct Line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 Based Contrac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5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Picture 6" descr="MCj02908900000[1]"/>
          <p:cNvPicPr/>
          <p:nvPr/>
        </p:nvPicPr>
        <p:blipFill>
          <a:blip r:embed="rId2"/>
          <a:stretch/>
        </p:blipFill>
        <p:spPr>
          <a:xfrm>
            <a:off x="5486400" y="1792440"/>
            <a:ext cx="1371600" cy="9810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j0237166"/>
          <p:cNvPicPr/>
          <p:nvPr/>
        </p:nvPicPr>
        <p:blipFill>
          <a:blip r:embed="rId3"/>
          <a:stretch/>
        </p:blipFill>
        <p:spPr>
          <a:xfrm>
            <a:off x="762120" y="1676520"/>
            <a:ext cx="1295280" cy="99540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8"/>
          <p:cNvSpPr/>
          <p:nvPr/>
        </p:nvSpPr>
        <p:spPr>
          <a:xfrm>
            <a:off x="152280" y="2852640"/>
            <a:ext cx="26672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 Contractua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ligatio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2895480" y="2743200"/>
            <a:ext cx="2057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 Relationships between custom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5105520" y="2867040"/>
            <a:ext cx="20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t Authoring Too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1"/>
          <p:cNvSpPr/>
          <p:nvPr/>
        </p:nvSpPr>
        <p:spPr>
          <a:xfrm>
            <a:off x="7010280" y="2760840"/>
            <a:ext cx="205740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ab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ck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12"/>
          <p:cNvSpPr/>
          <p:nvPr/>
        </p:nvSpPr>
        <p:spPr>
          <a:xfrm>
            <a:off x="6635880" y="5159520"/>
            <a:ext cx="1746000" cy="93636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acle Project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ract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13" descr="j0233332"/>
          <p:cNvPicPr/>
          <p:nvPr/>
        </p:nvPicPr>
        <p:blipFill>
          <a:blip r:embed="rId4"/>
          <a:stretch/>
        </p:blipFill>
        <p:spPr>
          <a:xfrm>
            <a:off x="7391520" y="1371600"/>
            <a:ext cx="14079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Oracle Project Intelligence…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3946320"/>
            <a:ext cx="822960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Project based operational and financial metrics, reporting and analy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role base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ll down to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hborad and KPI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 by 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4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Group 5"/>
          <p:cNvGrpSpPr/>
          <p:nvPr/>
        </p:nvGrpSpPr>
        <p:grpSpPr>
          <a:xfrm>
            <a:off x="304920" y="1717560"/>
            <a:ext cx="8534160" cy="2093040"/>
            <a:chOff x="304920" y="1717560"/>
            <a:chExt cx="8534160" cy="2093040"/>
          </a:xfrm>
        </p:grpSpPr>
        <p:pic>
          <p:nvPicPr>
            <p:cNvPr id="575" name="Picture 6" descr="MCj02908900000[1]"/>
            <p:cNvPicPr/>
            <p:nvPr/>
          </p:nvPicPr>
          <p:blipFill>
            <a:blip r:embed="rId1"/>
            <a:stretch/>
          </p:blipFill>
          <p:spPr>
            <a:xfrm>
              <a:off x="5486400" y="1833480"/>
              <a:ext cx="137160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7" descr="MCj02339040000[1]"/>
            <p:cNvPicPr/>
            <p:nvPr/>
          </p:nvPicPr>
          <p:blipFill>
            <a:blip r:embed="rId2"/>
            <a:stretch/>
          </p:blipFill>
          <p:spPr>
            <a:xfrm>
              <a:off x="3224160" y="1958760"/>
              <a:ext cx="11955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8" descr="MCBD04969_0000[1]"/>
            <p:cNvPicPr/>
            <p:nvPr/>
          </p:nvPicPr>
          <p:blipFill>
            <a:blip r:embed="rId3"/>
            <a:stretch/>
          </p:blipFill>
          <p:spPr>
            <a:xfrm>
              <a:off x="674640" y="1717560"/>
              <a:ext cx="1306440" cy="98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9" descr="j0237166"/>
            <p:cNvPicPr/>
            <p:nvPr/>
          </p:nvPicPr>
          <p:blipFill>
            <a:blip r:embed="rId4"/>
            <a:stretch/>
          </p:blipFill>
          <p:spPr>
            <a:xfrm>
              <a:off x="7543800" y="1833480"/>
              <a:ext cx="129528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Text Box 10"/>
            <p:cNvSpPr/>
            <p:nvPr/>
          </p:nvSpPr>
          <p:spPr>
            <a:xfrm>
              <a:off x="304920" y="2893680"/>
              <a:ext cx="2057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 and Financial Project Metric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Text Box 11"/>
            <p:cNvSpPr/>
            <p:nvPr/>
          </p:nvSpPr>
          <p:spPr>
            <a:xfrm>
              <a:off x="2743200" y="2893680"/>
              <a:ext cx="2057400" cy="67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al tim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-line reporting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Text Box 12"/>
            <p:cNvSpPr/>
            <p:nvPr/>
          </p:nvSpPr>
          <p:spPr>
            <a:xfrm>
              <a:off x="5105520" y="2908080"/>
              <a:ext cx="2057400" cy="67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packaged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Text Box 13"/>
          <p:cNvSpPr/>
          <p:nvPr/>
        </p:nvSpPr>
        <p:spPr>
          <a:xfrm>
            <a:off x="7086600" y="2624040"/>
            <a:ext cx="205740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shboar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KP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14"/>
          <p:cNvSpPr/>
          <p:nvPr/>
        </p:nvSpPr>
        <p:spPr>
          <a:xfrm>
            <a:off x="6095880" y="5181480"/>
            <a:ext cx="1905120" cy="990720"/>
          </a:xfrm>
          <a:prstGeom prst="cube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racle Project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llig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HTML vs. Forms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534520" cy="39625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functionality by HTML or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HTML vs. Forms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creation is HTML and Fo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0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4800600" cy="2895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"/>
          <p:cNvPicPr/>
          <p:nvPr/>
        </p:nvPicPr>
        <p:blipFill>
          <a:blip r:embed="rId2"/>
          <a:srcRect l="0" t="7890" r="0" b="0"/>
          <a:stretch/>
        </p:blipFill>
        <p:spPr>
          <a:xfrm>
            <a:off x="4572000" y="2895480"/>
            <a:ext cx="43434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0" y="2514600"/>
            <a:ext cx="4572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Function Security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5462640" y="3597120"/>
            <a:ext cx="3376440" cy="25750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7"/>
          <p:cNvSpPr/>
          <p:nvPr/>
        </p:nvSpPr>
        <p:spPr>
          <a:xfrm>
            <a:off x="7543800" y="4495680"/>
            <a:ext cx="10666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Function Security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tion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security controls user access to Oracle Projects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 are assigned to Men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providing access to specific functionality in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d via System Administ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Function Security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s control access to most features within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ility to see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ility to baseline a work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ility to view cost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ility to update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rcRect l="958" t="2108" r="0" b="0"/>
          <a:stretch/>
        </p:blipFill>
        <p:spPr>
          <a:xfrm>
            <a:off x="4572000" y="2286000"/>
            <a:ext cx="441972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666520" y="2666880"/>
            <a:ext cx="39625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Menu Security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5486400" y="3657600"/>
            <a:ext cx="3376440" cy="257508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5"/>
          <p:cNvSpPr/>
          <p:nvPr/>
        </p:nvSpPr>
        <p:spPr>
          <a:xfrm>
            <a:off x="7543800" y="4648320"/>
            <a:ext cx="10666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Menu Security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u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from either other menus o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t access to specific PA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s are assigned to either Responsibilities or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d via System Administr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343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Function and Menu Security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 to create a function loaded m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e to System Administrator-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ther create a new menu or query an existin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/Remove Functions a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27432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Responsibility Based Security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5486400" y="3749760"/>
            <a:ext cx="3376440" cy="25747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7543800" y="4419720"/>
            <a:ext cx="10666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Agenda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the Oracle Projects Su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versus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of PA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ulti Org/HR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 Profile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User Profile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Reference Configur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4724280" y="2819520"/>
            <a:ext cx="47246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ject Access Contro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rganizational Author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ole Based Secur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curity Extens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S Project Secur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ersonaliza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Responsibility Based Security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ser’s logon determines what a user can do within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ed and managed in System Admini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686800" cy="33526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5"/>
          <p:cNvSpPr/>
          <p:nvPr/>
        </p:nvSpPr>
        <p:spPr>
          <a:xfrm>
            <a:off x="380880" y="3657600"/>
            <a:ext cx="297180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9"/>
          <p:cNvSpPr/>
          <p:nvPr/>
        </p:nvSpPr>
        <p:spPr>
          <a:xfrm>
            <a:off x="1371600" y="4267080"/>
            <a:ext cx="327672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0"/>
          <p:cNvSpPr/>
          <p:nvPr/>
        </p:nvSpPr>
        <p:spPr>
          <a:xfrm>
            <a:off x="4800600" y="4191120"/>
            <a:ext cx="4038480" cy="53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Responsibility Based Security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3581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ilities contain the following attribu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and Menu Ex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5" descr=""/>
          <p:cNvPicPr/>
          <p:nvPr/>
        </p:nvPicPr>
        <p:blipFill>
          <a:blip r:embed="rId1"/>
          <a:stretch/>
        </p:blipFill>
        <p:spPr>
          <a:xfrm>
            <a:off x="4191120" y="1981080"/>
            <a:ext cx="4495680" cy="37339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6"/>
          <p:cNvSpPr/>
          <p:nvPr/>
        </p:nvSpPr>
        <p:spPr>
          <a:xfrm>
            <a:off x="4191120" y="4191120"/>
            <a:ext cx="449568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4267440" cy="36576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Responsibility Based Security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versus Forms differenc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4191120" cy="37339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6"/>
          <p:cNvSpPr/>
          <p:nvPr/>
        </p:nvSpPr>
        <p:spPr>
          <a:xfrm>
            <a:off x="76320" y="3276720"/>
            <a:ext cx="220968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4800600" y="3352680"/>
            <a:ext cx="2057400" cy="609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914400" y="3962520"/>
            <a:ext cx="167652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5410080" y="4038480"/>
            <a:ext cx="152424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7010280" y="39625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Responsibility Based Security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versus Forms responsibiliti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3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380988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2" name="Picture 15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3809880" cy="2514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9" descr=""/>
          <p:cNvPicPr/>
          <p:nvPr/>
        </p:nvPicPr>
        <p:blipFill>
          <a:blip r:embed="rId3"/>
          <a:stretch/>
        </p:blipFill>
        <p:spPr>
          <a:xfrm>
            <a:off x="6629400" y="3352680"/>
            <a:ext cx="21906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Responsibility Based Security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acle Projects Suite contains the following predefined 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ML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Super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Administ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ffing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s Manag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 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3581280" y="2743200"/>
            <a:ext cx="5486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s B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Costing Super Us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Billing Super Us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s Implementation Super Us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Manager (Non-HTML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Responsibility Based Security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to create a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e to System Administrator –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: Forms vs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Reques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any function or menu ex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27432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Multi Organization and HR Security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5462640" y="3597120"/>
            <a:ext cx="3376440" cy="257508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5"/>
          <p:cNvSpPr/>
          <p:nvPr/>
        </p:nvSpPr>
        <p:spPr>
          <a:xfrm>
            <a:off x="7543800" y="4343400"/>
            <a:ext cx="10666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MO and HR Security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prim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of defining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racle Applications users access the system through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is linked to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ity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ity prof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ermines which records the user can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MO and HR Security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 Organizational Security can be based on the follow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ierarc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 of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sines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ng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HR: Cross Business Group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R: Cross Business Gro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file o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partial visibility of information across business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380880" y="4038480"/>
            <a:ext cx="8458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Security Options Matrix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Security Profile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9524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 Human Resources Security Prof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data to be secured in a variety of ways includ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uni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"/>
          <p:cNvPicPr/>
          <p:nvPr/>
        </p:nvPicPr>
        <p:blipFill>
          <a:blip r:embed="rId1"/>
          <a:stretch/>
        </p:blipFill>
        <p:spPr>
          <a:xfrm>
            <a:off x="3429000" y="2590920"/>
            <a:ext cx="5410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MO Operating Unit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ecurity Profile calls for operating unit secu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Unit is determined using the operating unit specified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: Opera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file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or restrict access by operating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8534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MO Security Profile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for applications that 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tions and organization hierarch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ir business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security profile and then assign to the site or applicatio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8686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Levels for setting Profile Options…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228600" y="2057400"/>
            <a:ext cx="8686800" cy="388620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3276720" y="32004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6"/>
          <p:cNvSpPr/>
          <p:nvPr/>
        </p:nvSpPr>
        <p:spPr>
          <a:xfrm>
            <a:off x="2133720" y="426708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1066680" y="5181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4114800" y="2514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3657600" y="3505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3429000" y="4495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4038480" y="5334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12"/>
          <p:cNvSpPr/>
          <p:nvPr/>
        </p:nvSpPr>
        <p:spPr>
          <a:xfrm>
            <a:off x="533520" y="1905120"/>
            <a:ext cx="914400" cy="2666880"/>
          </a:xfrm>
          <a:prstGeom prst="downArrow">
            <a:avLst>
              <a:gd name="adj1" fmla="val 50000"/>
              <a:gd name="adj2" fmla="val 7291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13"/>
          <p:cNvSpPr/>
          <p:nvPr/>
        </p:nvSpPr>
        <p:spPr>
          <a:xfrm rot="10800000">
            <a:off x="7848720" y="1828800"/>
            <a:ext cx="914400" cy="2666880"/>
          </a:xfrm>
          <a:prstGeom prst="downArrow">
            <a:avLst>
              <a:gd name="adj1" fmla="val 50000"/>
              <a:gd name="adj2" fmla="val 7291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4"/>
          <p:cNvSpPr/>
          <p:nvPr/>
        </p:nvSpPr>
        <p:spPr>
          <a:xfrm>
            <a:off x="1371600" y="1752480"/>
            <a:ext cx="289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ing Ord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5"/>
          <p:cNvSpPr/>
          <p:nvPr/>
        </p:nvSpPr>
        <p:spPr>
          <a:xfrm>
            <a:off x="5715000" y="1752480"/>
            <a:ext cx="2895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of Precede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MO Security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 to configure MO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e to Human Resources- Security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ther create a new security profile or update an existing 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e to System Administrator – Profile System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appropriate value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R: Cross Busines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: Operating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: Security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828440" y="274320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PA Profile Options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5462640" y="3673440"/>
            <a:ext cx="3376440" cy="25750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5"/>
          <p:cNvSpPr/>
          <p:nvPr/>
        </p:nvSpPr>
        <p:spPr>
          <a:xfrm>
            <a:off x="6400800" y="4495680"/>
            <a:ext cx="10666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PA Profile Options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profile options provide an additional level of security for a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: Cross Project User –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: Cross Project User –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: View All Project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JI: Organizational Security 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Black"/>
              </a:rPr>
              <a:t>PA: Cross Project User – Update…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file provides update all projects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s to all operating units wher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: Operating Un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file option is enab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777240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Black"/>
              </a:rPr>
              <a:t>PA: Cross Project User – View…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file provides view all projects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fault is set to “Y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777240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Black"/>
              </a:rPr>
              <a:t>PA: View All Project Resources…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file enables users to view all resources in Oracle Projects and perform resource-related functions, as granted by their responsi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4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777240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4572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Walking the line, the Projects line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Line 7"/>
          <p:cNvSpPr/>
          <p:nvPr/>
        </p:nvSpPr>
        <p:spPr>
          <a:xfrm>
            <a:off x="1981080" y="3733920"/>
            <a:ext cx="6934320" cy="0"/>
          </a:xfrm>
          <a:prstGeom prst="line">
            <a:avLst/>
          </a:prstGeom>
          <a:ln w="93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1981080" y="3886200"/>
            <a:ext cx="6934320" cy="0"/>
          </a:xfrm>
          <a:prstGeom prst="line">
            <a:avLst/>
          </a:prstGeom>
          <a:ln w="93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Black"/>
              </a:rPr>
              <a:t>PJI: Organizational Security Profile…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provide security access to Project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the Security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380880" y="4724280"/>
            <a:ext cx="777240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PA Profile Options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to define the PA Profile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e to System Admin- Profile System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each of the following profiles an update a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: Cross Project User –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: Cross Project User –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: View All Project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JI: Organizational Security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47560" y="2743200"/>
            <a:ext cx="74674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Personal Profile Values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5538960" y="3673440"/>
            <a:ext cx="3376440" cy="25750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5"/>
          <p:cNvSpPr/>
          <p:nvPr/>
        </p:nvSpPr>
        <p:spPr>
          <a:xfrm>
            <a:off x="7772400" y="4800600"/>
            <a:ext cx="10666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User Profiles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4724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have limited ability to modify specific profile op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ed via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 Profile Val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User Profiles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to update a User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e to the appropriate responsibility; (Example: Project Billing Super User-  Other - 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the values for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profile with the appropriat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52120" y="251460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Project Access Control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5538960" y="3673440"/>
            <a:ext cx="3376440" cy="257508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5"/>
          <p:cNvSpPr/>
          <p:nvPr/>
        </p:nvSpPr>
        <p:spPr>
          <a:xfrm>
            <a:off x="6553080" y="5334120"/>
            <a:ext cx="11430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Project Access Level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Access Levels allow control of who can search and view specific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access levels for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e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rs need role or organizational access to view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pris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ject can be viewed by any user in your enterprise regardless of their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Project Access Level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3962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ject access level is assigned via 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G: Update Project Access Lev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current process to update the access levels of several projects a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8" name="Picture 4" descr=""/>
          <p:cNvPicPr/>
          <p:nvPr/>
        </p:nvPicPr>
        <p:blipFill>
          <a:blip r:embed="rId2"/>
          <a:srcRect l="0" t="0" r="30000" b="23337"/>
          <a:stretch/>
        </p:blipFill>
        <p:spPr>
          <a:xfrm>
            <a:off x="4572000" y="3886200"/>
            <a:ext cx="3962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Project Access Level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to enable Project Level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vigate to Project Super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y a Project or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access level to eit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1240" y="24382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Organizational Authority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5538960" y="3749760"/>
            <a:ext cx="3376440" cy="257472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5"/>
          <p:cNvSpPr/>
          <p:nvPr/>
        </p:nvSpPr>
        <p:spPr>
          <a:xfrm>
            <a:off x="6400800" y="5486400"/>
            <a:ext cx="10666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2743200"/>
            <a:ext cx="6933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Introduction to the Oracle Projects suite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Organizational Authority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for users at an organiz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with Organizational based secur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 ne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individual organization must be assigned to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3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3810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Organizational Authority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 based security provides the following organizational author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Autho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rform Project Manager functions on all projects in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 Author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iew and update resource information for all resources in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zation Autho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alculate and view utilization for all resources in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cast Author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rate and view forecast information for all projects in an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Organizational Authority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to enable Organizational Base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e to Project Billing Super User – Organizational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name of the user that needs organizational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organizations the user should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users authority for each Organization by checking the authority check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28440" y="274320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Role Based Security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5538960" y="3733920"/>
            <a:ext cx="3376440" cy="257472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5"/>
          <p:cNvSpPr/>
          <p:nvPr/>
        </p:nvSpPr>
        <p:spPr>
          <a:xfrm>
            <a:off x="6477120" y="5257800"/>
            <a:ext cx="10666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Role Based Security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based security controls access based on the role the user plays on a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for a user can be different on each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based security overrides responsibility based security for individual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dditional features for specific modules such as Resource MGT and Con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Role Based Security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Based Security assigns menus to rol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s with roles are considered secured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ecured roles use the Responsibility to determine projec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s are build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-me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4267080" y="3200400"/>
            <a:ext cx="4496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Roles– Controls Tab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grant access to specific features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s a Task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labor Cost 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s a Contract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s a Project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15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419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Role Lists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lists to categorize roles into logical group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you may have a role list called Consulting to which all roles relating to consulting are assig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8098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Roles– Role Lists Tab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le lists to which you want the role assig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7" descr=""/>
          <p:cNvPicPr/>
          <p:nvPr/>
        </p:nvPicPr>
        <p:blipFill>
          <a:blip r:embed="rId1"/>
          <a:stretch/>
        </p:blipFill>
        <p:spPr>
          <a:xfrm>
            <a:off x="4343400" y="2133720"/>
            <a:ext cx="46483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Roles– Jobs Tab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roles are the templates for creating resourc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project role, enter the default for job information for resource requirements created based on the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levels are used for requirements search, and job groups and jobs drive foreca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3627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81"/>
          <p:cNvSpPr/>
          <p:nvPr/>
        </p:nvSpPr>
        <p:spPr>
          <a:xfrm>
            <a:off x="8799480" y="2313000"/>
            <a:ext cx="0" cy="3935520"/>
          </a:xfrm>
          <a:prstGeom prst="line">
            <a:avLst/>
          </a:prstGeom>
          <a:ln w="12600">
            <a:solidFill>
              <a:srgbClr val="808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80"/>
          <p:cNvSpPr/>
          <p:nvPr/>
        </p:nvSpPr>
        <p:spPr>
          <a:xfrm>
            <a:off x="8456760" y="2313000"/>
            <a:ext cx="0" cy="3935520"/>
          </a:xfrm>
          <a:prstGeom prst="line">
            <a:avLst/>
          </a:prstGeom>
          <a:ln w="12600">
            <a:solidFill>
              <a:srgbClr val="808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History of Oracle Applications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822840" y="203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4"/>
          <p:cNvSpPr/>
          <p:nvPr/>
        </p:nvSpPr>
        <p:spPr>
          <a:xfrm>
            <a:off x="220680" y="2203560"/>
            <a:ext cx="0" cy="4005000"/>
          </a:xfrm>
          <a:prstGeom prst="line">
            <a:avLst/>
          </a:prstGeom>
          <a:ln w="12600">
            <a:solidFill>
              <a:srgbClr val="808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5"/>
          <p:cNvSpPr/>
          <p:nvPr/>
        </p:nvSpPr>
        <p:spPr>
          <a:xfrm>
            <a:off x="888840" y="2271600"/>
            <a:ext cx="17640" cy="3976920"/>
          </a:xfrm>
          <a:prstGeom prst="line">
            <a:avLst/>
          </a:prstGeom>
          <a:ln w="12600">
            <a:solidFill>
              <a:srgbClr val="808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>
            <a:off x="1249200" y="2271600"/>
            <a:ext cx="0" cy="3976920"/>
          </a:xfrm>
          <a:prstGeom prst="line">
            <a:avLst/>
          </a:prstGeom>
          <a:ln w="12600">
            <a:solidFill>
              <a:srgbClr val="808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7"/>
          <p:cNvSpPr/>
          <p:nvPr/>
        </p:nvSpPr>
        <p:spPr>
          <a:xfrm flipH="1">
            <a:off x="1934640" y="2203560"/>
            <a:ext cx="25560" cy="4044960"/>
          </a:xfrm>
          <a:prstGeom prst="line">
            <a:avLst/>
          </a:prstGeom>
          <a:ln w="12600">
            <a:solidFill>
              <a:srgbClr val="808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8"/>
          <p:cNvSpPr/>
          <p:nvPr/>
        </p:nvSpPr>
        <p:spPr>
          <a:xfrm flipH="1">
            <a:off x="2277720" y="2203560"/>
            <a:ext cx="12600" cy="4044960"/>
          </a:xfrm>
          <a:prstGeom prst="line">
            <a:avLst/>
          </a:prstGeom>
          <a:ln w="12600">
            <a:solidFill>
              <a:srgbClr val="808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9"/>
          <p:cNvSpPr/>
          <p:nvPr/>
        </p:nvSpPr>
        <p:spPr>
          <a:xfrm>
            <a:off x="2620800" y="2203560"/>
            <a:ext cx="0" cy="4044960"/>
          </a:xfrm>
          <a:prstGeom prst="line">
            <a:avLst/>
          </a:prstGeom>
          <a:ln w="12600">
            <a:solidFill>
              <a:srgbClr val="808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0"/>
          <p:cNvSpPr/>
          <p:nvPr/>
        </p:nvSpPr>
        <p:spPr>
          <a:xfrm>
            <a:off x="558720" y="2203560"/>
            <a:ext cx="4680" cy="4005000"/>
          </a:xfrm>
          <a:prstGeom prst="line">
            <a:avLst/>
          </a:prstGeom>
          <a:ln w="12600">
            <a:solidFill>
              <a:srgbClr val="808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1"/>
          <p:cNvSpPr/>
          <p:nvPr/>
        </p:nvSpPr>
        <p:spPr>
          <a:xfrm>
            <a:off x="2963880" y="2203560"/>
            <a:ext cx="0" cy="4044960"/>
          </a:xfrm>
          <a:prstGeom prst="line">
            <a:avLst/>
          </a:prstGeom>
          <a:ln w="12600">
            <a:solidFill>
              <a:srgbClr val="808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3306600" y="2313000"/>
            <a:ext cx="0" cy="3935520"/>
          </a:xfrm>
          <a:prstGeom prst="line">
            <a:avLst/>
          </a:prstGeom>
          <a:ln w="12600">
            <a:solidFill>
              <a:srgbClr val="808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3649680" y="2341440"/>
            <a:ext cx="0" cy="3907080"/>
          </a:xfrm>
          <a:prstGeom prst="line">
            <a:avLst/>
          </a:prstGeom>
          <a:ln w="12600">
            <a:solidFill>
              <a:srgbClr val="808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3992400" y="2313000"/>
            <a:ext cx="0" cy="3935520"/>
          </a:xfrm>
          <a:prstGeom prst="line">
            <a:avLst/>
          </a:prstGeom>
          <a:ln w="12600">
            <a:solidFill>
              <a:srgbClr val="808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5"/>
          <p:cNvSpPr/>
          <p:nvPr/>
        </p:nvSpPr>
        <p:spPr>
          <a:xfrm flipH="1">
            <a:off x="1591920" y="2174760"/>
            <a:ext cx="25560" cy="4073760"/>
          </a:xfrm>
          <a:prstGeom prst="line">
            <a:avLst/>
          </a:prstGeom>
          <a:ln w="12600">
            <a:solidFill>
              <a:srgbClr val="808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6"/>
          <p:cNvSpPr/>
          <p:nvPr/>
        </p:nvSpPr>
        <p:spPr>
          <a:xfrm>
            <a:off x="4335480" y="2313000"/>
            <a:ext cx="0" cy="3935520"/>
          </a:xfrm>
          <a:prstGeom prst="line">
            <a:avLst/>
          </a:prstGeom>
          <a:ln w="12600">
            <a:solidFill>
              <a:srgbClr val="808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7"/>
          <p:cNvSpPr/>
          <p:nvPr/>
        </p:nvSpPr>
        <p:spPr>
          <a:xfrm>
            <a:off x="4678200" y="2313000"/>
            <a:ext cx="0" cy="3935520"/>
          </a:xfrm>
          <a:prstGeom prst="line">
            <a:avLst/>
          </a:prstGeom>
          <a:ln w="12600">
            <a:solidFill>
              <a:srgbClr val="808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5021280" y="2313000"/>
            <a:ext cx="0" cy="3935520"/>
          </a:xfrm>
          <a:prstGeom prst="line">
            <a:avLst/>
          </a:prstGeom>
          <a:ln w="12600">
            <a:solidFill>
              <a:srgbClr val="808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5364000" y="2313000"/>
            <a:ext cx="0" cy="3935520"/>
          </a:xfrm>
          <a:prstGeom prst="line">
            <a:avLst/>
          </a:prstGeom>
          <a:ln w="12600">
            <a:solidFill>
              <a:srgbClr val="808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0"/>
          <p:cNvSpPr/>
          <p:nvPr/>
        </p:nvSpPr>
        <p:spPr>
          <a:xfrm>
            <a:off x="5707080" y="2313000"/>
            <a:ext cx="0" cy="3935520"/>
          </a:xfrm>
          <a:prstGeom prst="line">
            <a:avLst/>
          </a:prstGeom>
          <a:ln w="12600">
            <a:solidFill>
              <a:srgbClr val="808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1"/>
          <p:cNvSpPr/>
          <p:nvPr/>
        </p:nvSpPr>
        <p:spPr>
          <a:xfrm>
            <a:off x="6049800" y="2313000"/>
            <a:ext cx="0" cy="3935520"/>
          </a:xfrm>
          <a:prstGeom prst="line">
            <a:avLst/>
          </a:prstGeom>
          <a:ln w="12600">
            <a:solidFill>
              <a:srgbClr val="808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2"/>
          <p:cNvSpPr/>
          <p:nvPr/>
        </p:nvSpPr>
        <p:spPr>
          <a:xfrm>
            <a:off x="6392880" y="2313000"/>
            <a:ext cx="0" cy="3935520"/>
          </a:xfrm>
          <a:prstGeom prst="line">
            <a:avLst/>
          </a:prstGeom>
          <a:ln w="12600">
            <a:solidFill>
              <a:srgbClr val="808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3"/>
          <p:cNvSpPr/>
          <p:nvPr/>
        </p:nvSpPr>
        <p:spPr>
          <a:xfrm>
            <a:off x="6735600" y="2313000"/>
            <a:ext cx="0" cy="3935520"/>
          </a:xfrm>
          <a:prstGeom prst="line">
            <a:avLst/>
          </a:prstGeom>
          <a:ln w="12600">
            <a:solidFill>
              <a:srgbClr val="808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480600" y="199404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8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1155240" y="20368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8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1497960" y="185724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8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2526840" y="20368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3555360" y="188424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2937960" y="188424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4241160" y="18558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1"/>
          <p:cNvSpPr/>
          <p:nvPr/>
        </p:nvSpPr>
        <p:spPr>
          <a:xfrm>
            <a:off x="137520" y="185724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8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5281200" y="20368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3"/>
          <p:cNvSpPr/>
          <p:nvPr/>
        </p:nvSpPr>
        <p:spPr>
          <a:xfrm>
            <a:off x="823320" y="18288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8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4"/>
          <p:cNvSpPr/>
          <p:nvPr/>
        </p:nvSpPr>
        <p:spPr>
          <a:xfrm>
            <a:off x="1841040" y="196704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8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5"/>
          <p:cNvSpPr/>
          <p:nvPr/>
        </p:nvSpPr>
        <p:spPr>
          <a:xfrm>
            <a:off x="2183760" y="18288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8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6"/>
          <p:cNvSpPr/>
          <p:nvPr/>
        </p:nvSpPr>
        <p:spPr>
          <a:xfrm>
            <a:off x="3223800" y="20638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3898440" y="20368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4595400" y="20368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9"/>
          <p:cNvSpPr/>
          <p:nvPr/>
        </p:nvSpPr>
        <p:spPr>
          <a:xfrm>
            <a:off x="4926960" y="18288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0"/>
          <p:cNvSpPr/>
          <p:nvPr/>
        </p:nvSpPr>
        <p:spPr>
          <a:xfrm>
            <a:off x="5612760" y="18288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1"/>
          <p:cNvSpPr/>
          <p:nvPr/>
        </p:nvSpPr>
        <p:spPr>
          <a:xfrm>
            <a:off x="5955840" y="20368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6298560" y="18288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3"/>
          <p:cNvSpPr/>
          <p:nvPr/>
        </p:nvSpPr>
        <p:spPr>
          <a:xfrm>
            <a:off x="7078680" y="2313000"/>
            <a:ext cx="0" cy="3935520"/>
          </a:xfrm>
          <a:prstGeom prst="line">
            <a:avLst/>
          </a:prstGeom>
          <a:ln w="12600">
            <a:solidFill>
              <a:srgbClr val="808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44"/>
          <p:cNvSpPr/>
          <p:nvPr/>
        </p:nvSpPr>
        <p:spPr>
          <a:xfrm>
            <a:off x="7421400" y="2313000"/>
            <a:ext cx="0" cy="3935520"/>
          </a:xfrm>
          <a:prstGeom prst="line">
            <a:avLst/>
          </a:prstGeom>
          <a:ln w="12600">
            <a:solidFill>
              <a:srgbClr val="808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45"/>
          <p:cNvSpPr/>
          <p:nvPr/>
        </p:nvSpPr>
        <p:spPr>
          <a:xfrm>
            <a:off x="7764480" y="2313000"/>
            <a:ext cx="0" cy="3935520"/>
          </a:xfrm>
          <a:prstGeom prst="line">
            <a:avLst/>
          </a:prstGeom>
          <a:ln w="12600">
            <a:solidFill>
              <a:srgbClr val="808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46"/>
          <p:cNvSpPr/>
          <p:nvPr/>
        </p:nvSpPr>
        <p:spPr>
          <a:xfrm>
            <a:off x="8107200" y="2243160"/>
            <a:ext cx="0" cy="4005360"/>
          </a:xfrm>
          <a:prstGeom prst="line">
            <a:avLst/>
          </a:prstGeom>
          <a:ln w="12600">
            <a:solidFill>
              <a:srgbClr val="808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7"/>
          <p:cNvSpPr/>
          <p:nvPr/>
        </p:nvSpPr>
        <p:spPr>
          <a:xfrm>
            <a:off x="6641640" y="20368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8"/>
          <p:cNvSpPr/>
          <p:nvPr/>
        </p:nvSpPr>
        <p:spPr>
          <a:xfrm>
            <a:off x="6927120" y="18288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9"/>
          <p:cNvSpPr/>
          <p:nvPr/>
        </p:nvSpPr>
        <p:spPr>
          <a:xfrm>
            <a:off x="7270200" y="20368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0"/>
          <p:cNvSpPr/>
          <p:nvPr/>
        </p:nvSpPr>
        <p:spPr>
          <a:xfrm>
            <a:off x="7670160" y="18288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51"/>
          <p:cNvSpPr/>
          <p:nvPr/>
        </p:nvSpPr>
        <p:spPr>
          <a:xfrm>
            <a:off x="152280" y="62485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52"/>
          <p:cNvSpPr/>
          <p:nvPr/>
        </p:nvSpPr>
        <p:spPr>
          <a:xfrm>
            <a:off x="152280" y="2243160"/>
            <a:ext cx="169920" cy="208080"/>
          </a:xfrm>
          <a:prstGeom prst="flowChartSor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3"/>
          <p:cNvSpPr/>
          <p:nvPr/>
        </p:nvSpPr>
        <p:spPr>
          <a:xfrm>
            <a:off x="152280" y="2451240"/>
            <a:ext cx="1782720" cy="5522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racle Founde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Originally named RSI)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54"/>
          <p:cNvSpPr/>
          <p:nvPr/>
        </p:nvSpPr>
        <p:spPr>
          <a:xfrm>
            <a:off x="1523880" y="3209760"/>
            <a:ext cx="169920" cy="208080"/>
          </a:xfrm>
          <a:prstGeom prst="flowChartSor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5"/>
          <p:cNvSpPr/>
          <p:nvPr/>
        </p:nvSpPr>
        <p:spPr>
          <a:xfrm>
            <a:off x="1523880" y="3417840"/>
            <a:ext cx="1989360" cy="8287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reation of App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vision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Version MPL3)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6"/>
          <p:cNvSpPr/>
          <p:nvPr/>
        </p:nvSpPr>
        <p:spPr>
          <a:xfrm>
            <a:off x="3718080" y="3762360"/>
            <a:ext cx="685800" cy="592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er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7"/>
          <p:cNvSpPr/>
          <p:nvPr/>
        </p:nvSpPr>
        <p:spPr>
          <a:xfrm>
            <a:off x="4851360" y="4205160"/>
            <a:ext cx="855720" cy="594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er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0.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C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8"/>
          <p:cNvSpPr/>
          <p:nvPr/>
        </p:nvSpPr>
        <p:spPr>
          <a:xfrm>
            <a:off x="7489800" y="3446640"/>
            <a:ext cx="685800" cy="591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er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1.5.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9"/>
          <p:cNvSpPr/>
          <p:nvPr/>
        </p:nvSpPr>
        <p:spPr>
          <a:xfrm>
            <a:off x="4746600" y="3348000"/>
            <a:ext cx="824040" cy="592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er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0.7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U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0"/>
          <p:cNvSpPr/>
          <p:nvPr/>
        </p:nvSpPr>
        <p:spPr>
          <a:xfrm>
            <a:off x="3992400" y="4619520"/>
            <a:ext cx="685800" cy="594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er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0.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1"/>
          <p:cNvSpPr/>
          <p:nvPr/>
        </p:nvSpPr>
        <p:spPr>
          <a:xfrm>
            <a:off x="5707080" y="2519280"/>
            <a:ext cx="685800" cy="592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er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1.0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2"/>
          <p:cNvSpPr/>
          <p:nvPr/>
        </p:nvSpPr>
        <p:spPr>
          <a:xfrm>
            <a:off x="6049800" y="3417840"/>
            <a:ext cx="685800" cy="592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er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1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3"/>
          <p:cNvSpPr/>
          <p:nvPr/>
        </p:nvSpPr>
        <p:spPr>
          <a:xfrm>
            <a:off x="4199040" y="2519280"/>
            <a:ext cx="822240" cy="592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er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0.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rac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64"/>
          <p:cNvSpPr/>
          <p:nvPr/>
        </p:nvSpPr>
        <p:spPr>
          <a:xfrm>
            <a:off x="2963880" y="4452840"/>
            <a:ext cx="169920" cy="208080"/>
          </a:xfrm>
          <a:prstGeom prst="flowChartSor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65"/>
          <p:cNvSpPr/>
          <p:nvPr/>
        </p:nvSpPr>
        <p:spPr>
          <a:xfrm>
            <a:off x="3924360" y="3556080"/>
            <a:ext cx="169920" cy="206280"/>
          </a:xfrm>
          <a:prstGeom prst="flowChartSor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66"/>
          <p:cNvSpPr/>
          <p:nvPr/>
        </p:nvSpPr>
        <p:spPr>
          <a:xfrm>
            <a:off x="4473720" y="4384800"/>
            <a:ext cx="169560" cy="206280"/>
          </a:xfrm>
          <a:prstGeom prst="flowChartSor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67"/>
          <p:cNvSpPr/>
          <p:nvPr/>
        </p:nvSpPr>
        <p:spPr>
          <a:xfrm>
            <a:off x="4952880" y="2313000"/>
            <a:ext cx="169920" cy="206280"/>
          </a:xfrm>
          <a:prstGeom prst="flowChartSor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8"/>
          <p:cNvSpPr/>
          <p:nvPr/>
        </p:nvSpPr>
        <p:spPr>
          <a:xfrm>
            <a:off x="5057640" y="3141720"/>
            <a:ext cx="169920" cy="206280"/>
          </a:xfrm>
          <a:prstGeom prst="flowChartSor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69"/>
          <p:cNvSpPr/>
          <p:nvPr/>
        </p:nvSpPr>
        <p:spPr>
          <a:xfrm>
            <a:off x="5400720" y="4038480"/>
            <a:ext cx="169920" cy="208080"/>
          </a:xfrm>
          <a:prstGeom prst="flowChartSor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70"/>
          <p:cNvSpPr/>
          <p:nvPr/>
        </p:nvSpPr>
        <p:spPr>
          <a:xfrm>
            <a:off x="6049800" y="3209760"/>
            <a:ext cx="169920" cy="208080"/>
          </a:xfrm>
          <a:prstGeom prst="flowChartSor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71"/>
          <p:cNvSpPr/>
          <p:nvPr/>
        </p:nvSpPr>
        <p:spPr>
          <a:xfrm>
            <a:off x="7970760" y="3238560"/>
            <a:ext cx="169920" cy="208080"/>
          </a:xfrm>
          <a:prstGeom prst="flowChartSor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72"/>
          <p:cNvSpPr/>
          <p:nvPr/>
        </p:nvSpPr>
        <p:spPr>
          <a:xfrm>
            <a:off x="5707080" y="2313000"/>
            <a:ext cx="169920" cy="206280"/>
          </a:xfrm>
          <a:prstGeom prst="flowChartSor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3"/>
          <p:cNvSpPr/>
          <p:nvPr/>
        </p:nvSpPr>
        <p:spPr>
          <a:xfrm>
            <a:off x="1600200" y="5540400"/>
            <a:ext cx="4114800" cy="2286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ent/Serv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4"/>
          <p:cNvSpPr/>
          <p:nvPr/>
        </p:nvSpPr>
        <p:spPr>
          <a:xfrm>
            <a:off x="5707080" y="5540400"/>
            <a:ext cx="3436920" cy="2714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ML Bas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5"/>
          <p:cNvSpPr/>
          <p:nvPr/>
        </p:nvSpPr>
        <p:spPr>
          <a:xfrm>
            <a:off x="5981760" y="5334120"/>
            <a:ext cx="3162240" cy="2062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-Business Su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6"/>
          <p:cNvSpPr/>
          <p:nvPr/>
        </p:nvSpPr>
        <p:spPr>
          <a:xfrm>
            <a:off x="2620800" y="4619520"/>
            <a:ext cx="685800" cy="594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er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7"/>
          <p:cNvSpPr/>
          <p:nvPr/>
        </p:nvSpPr>
        <p:spPr>
          <a:xfrm>
            <a:off x="5021280" y="5769000"/>
            <a:ext cx="4122720" cy="2509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ject Billing/Cost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8"/>
          <p:cNvSpPr/>
          <p:nvPr/>
        </p:nvSpPr>
        <p:spPr>
          <a:xfrm>
            <a:off x="6049800" y="6019920"/>
            <a:ext cx="3094200" cy="2286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terprise Project Manageme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82"/>
          <p:cNvSpPr/>
          <p:nvPr/>
        </p:nvSpPr>
        <p:spPr>
          <a:xfrm>
            <a:off x="9142560" y="2313000"/>
            <a:ext cx="0" cy="3935520"/>
          </a:xfrm>
          <a:prstGeom prst="line">
            <a:avLst/>
          </a:prstGeom>
          <a:ln w="12600">
            <a:solidFill>
              <a:srgbClr val="808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84"/>
          <p:cNvSpPr/>
          <p:nvPr/>
        </p:nvSpPr>
        <p:spPr>
          <a:xfrm>
            <a:off x="8305200" y="18288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85"/>
          <p:cNvSpPr/>
          <p:nvPr/>
        </p:nvSpPr>
        <p:spPr>
          <a:xfrm>
            <a:off x="8648280" y="20368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9"/>
          <p:cNvSpPr/>
          <p:nvPr/>
        </p:nvSpPr>
        <p:spPr>
          <a:xfrm>
            <a:off x="8000280" y="19810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0"/>
          <p:cNvSpPr/>
          <p:nvPr/>
        </p:nvSpPr>
        <p:spPr>
          <a:xfrm>
            <a:off x="8153280" y="4343400"/>
            <a:ext cx="914400" cy="592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ollu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 to 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91"/>
          <p:cNvSpPr/>
          <p:nvPr/>
        </p:nvSpPr>
        <p:spPr>
          <a:xfrm>
            <a:off x="8211960" y="4135320"/>
            <a:ext cx="169920" cy="208080"/>
          </a:xfrm>
          <a:prstGeom prst="flowChartSor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92"/>
          <p:cNvSpPr/>
          <p:nvPr/>
        </p:nvSpPr>
        <p:spPr>
          <a:xfrm>
            <a:off x="8440560" y="4135320"/>
            <a:ext cx="169920" cy="208080"/>
          </a:xfrm>
          <a:prstGeom prst="flowChartSor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93"/>
          <p:cNvSpPr/>
          <p:nvPr/>
        </p:nvSpPr>
        <p:spPr>
          <a:xfrm>
            <a:off x="8669160" y="4135320"/>
            <a:ext cx="169920" cy="208080"/>
          </a:xfrm>
          <a:prstGeom prst="flowChartSor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94"/>
          <p:cNvSpPr/>
          <p:nvPr/>
        </p:nvSpPr>
        <p:spPr>
          <a:xfrm>
            <a:off x="8897760" y="4135320"/>
            <a:ext cx="169920" cy="208080"/>
          </a:xfrm>
          <a:prstGeom prst="flowChartSor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96"/>
          <p:cNvSpPr/>
          <p:nvPr/>
        </p:nvSpPr>
        <p:spPr>
          <a:xfrm>
            <a:off x="8001000" y="2532240"/>
            <a:ext cx="685800" cy="591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er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97"/>
          <p:cNvSpPr/>
          <p:nvPr/>
        </p:nvSpPr>
        <p:spPr>
          <a:xfrm>
            <a:off x="8481960" y="2324160"/>
            <a:ext cx="169920" cy="208080"/>
          </a:xfrm>
          <a:prstGeom prst="flowChartSor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Roles- Competencies Tab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876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roles are the templates for creating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oject role, enter the default competency information used on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ncies are used for requirements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4" descr=""/>
          <p:cNvPicPr/>
          <p:nvPr/>
        </p:nvPicPr>
        <p:blipFill>
          <a:blip r:embed="rId1"/>
          <a:stretch/>
        </p:blipFill>
        <p:spPr>
          <a:xfrm>
            <a:off x="5234040" y="1752480"/>
            <a:ext cx="390996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Roles- Project Status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dditional level of security based on Projec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llows a user to change classifications in unapproved status, but not in approved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1"/>
          <a:stretch/>
        </p:blipFill>
        <p:spPr>
          <a:xfrm>
            <a:off x="5078520" y="2057400"/>
            <a:ext cx="40654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Roles- Access Rules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724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the set default access levels for Project Con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person associated with this role will inherit these default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4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411480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Role Based Security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role has been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a user as a key member/team member to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key members/team members can be established in bo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8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3809880" cy="19051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2" descr=""/>
          <p:cNvPicPr/>
          <p:nvPr/>
        </p:nvPicPr>
        <p:blipFill>
          <a:blip r:embed="rId2"/>
          <a:stretch/>
        </p:blipFill>
        <p:spPr>
          <a:xfrm>
            <a:off x="4572000" y="3809880"/>
            <a:ext cx="38098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Role Based Security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to enable Role Base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e to Project Billing Super User- Setup- Project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new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Menu for Role base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appropriate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further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e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users to the roles in either HTML or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33720" y="2666880"/>
            <a:ext cx="5790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Security Extension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5462640" y="3673440"/>
            <a:ext cx="3376440" cy="25750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5"/>
          <p:cNvSpPr/>
          <p:nvPr/>
        </p:nvSpPr>
        <p:spPr>
          <a:xfrm>
            <a:off x="6400800" y="5943600"/>
            <a:ext cx="10666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Security Extensions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ject Security extension allows customized business rules for project and labor cost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pplies to non-HTML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ilities can view or update only capit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DFF to define access to a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Security Extensions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to create a Security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your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body and package resp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: PAPSECXB.p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: pa_security_ext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he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Live” with the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133720" y="2666880"/>
            <a:ext cx="5790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Microsoft Project Security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5462640" y="3597120"/>
            <a:ext cx="3376440" cy="25750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5"/>
          <p:cNvSpPr/>
          <p:nvPr/>
        </p:nvSpPr>
        <p:spPr>
          <a:xfrm>
            <a:off x="6400800" y="4572000"/>
            <a:ext cx="10666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MS Project Security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acle Projects suite provides standard integration with MS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Based Security is honored by the MS Project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we have the ability to restrict rates from interfacing to MS Project based on project role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he Projects Suite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AutoShape 2"/>
          <p:cNvSpPr/>
          <p:nvPr/>
        </p:nvSpPr>
        <p:spPr>
          <a:xfrm>
            <a:off x="457200" y="1366920"/>
            <a:ext cx="7962840" cy="4613040"/>
          </a:xfrm>
          <a:prstGeom prst="flowChartMagneticDisk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3"/>
          <p:cNvSpPr/>
          <p:nvPr/>
        </p:nvSpPr>
        <p:spPr>
          <a:xfrm>
            <a:off x="457200" y="1295280"/>
            <a:ext cx="7962840" cy="1513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racle Projects Intellig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8"/>
          <p:cNvSpPr/>
          <p:nvPr/>
        </p:nvSpPr>
        <p:spPr>
          <a:xfrm>
            <a:off x="2901960" y="4754520"/>
            <a:ext cx="3282840" cy="108108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acle Project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undat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2901960" y="4106880"/>
            <a:ext cx="1746360" cy="93672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acle Project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lli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4438800" y="4106880"/>
            <a:ext cx="1746000" cy="93672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acle Project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sti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596880" y="3457440"/>
            <a:ext cx="1746360" cy="936720"/>
          </a:xfrm>
          <a:prstGeom prst="cube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racle Project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llaborat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2"/>
          <p:cNvSpPr/>
          <p:nvPr/>
        </p:nvSpPr>
        <p:spPr>
          <a:xfrm>
            <a:off x="4648320" y="2881440"/>
            <a:ext cx="1885680" cy="1081080"/>
          </a:xfrm>
          <a:prstGeom prst="cube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racle Project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3"/>
          <p:cNvSpPr/>
          <p:nvPr/>
        </p:nvSpPr>
        <p:spPr>
          <a:xfrm>
            <a:off x="596880" y="2736720"/>
            <a:ext cx="1746360" cy="936720"/>
          </a:xfrm>
          <a:prstGeom prst="cube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racle Project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4"/>
          <p:cNvSpPr/>
          <p:nvPr/>
        </p:nvSpPr>
        <p:spPr>
          <a:xfrm>
            <a:off x="2762280" y="2881440"/>
            <a:ext cx="1746360" cy="1081080"/>
          </a:xfrm>
          <a:prstGeom prst="cube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racle Project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ortfolio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anni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15"/>
          <p:cNvSpPr/>
          <p:nvPr/>
        </p:nvSpPr>
        <p:spPr>
          <a:xfrm>
            <a:off x="6603840" y="2736720"/>
            <a:ext cx="1746360" cy="9367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acle Project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ract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16"/>
          <p:cNvSpPr/>
          <p:nvPr/>
        </p:nvSpPr>
        <p:spPr>
          <a:xfrm>
            <a:off x="6394320" y="3817800"/>
            <a:ext cx="1746360" cy="936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acle Project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ufacturi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17"/>
          <p:cNvSpPr/>
          <p:nvPr/>
        </p:nvSpPr>
        <p:spPr>
          <a:xfrm>
            <a:off x="876240" y="4538520"/>
            <a:ext cx="1746360" cy="936720"/>
          </a:xfrm>
          <a:prstGeom prst="cube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racle Tim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nd Labo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6095880" y="5029200"/>
            <a:ext cx="181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  <a:ea typeface="Arial"/>
              </a:rPr>
              <a:t>Global Project Repositor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24" descr="Finance: Fund, Money"/>
          <p:cNvPicPr/>
          <p:nvPr/>
        </p:nvPicPr>
        <p:blipFill>
          <a:blip r:embed="rId2"/>
          <a:stretch/>
        </p:blipFill>
        <p:spPr>
          <a:xfrm>
            <a:off x="5248440" y="5181480"/>
            <a:ext cx="695160" cy="631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5" descr="j0213169"/>
          <p:cNvPicPr/>
          <p:nvPr/>
        </p:nvPicPr>
        <p:blipFill>
          <a:blip r:embed="rId3"/>
          <a:stretch/>
        </p:blipFill>
        <p:spPr>
          <a:xfrm>
            <a:off x="7086600" y="2438280"/>
            <a:ext cx="628560" cy="609840"/>
          </a:xfrm>
          <a:prstGeom prst="rect">
            <a:avLst/>
          </a:prstGeom>
          <a:ln w="0">
            <a:noFill/>
          </a:ln>
        </p:spPr>
      </p:pic>
      <p:sp>
        <p:nvSpPr>
          <p:cNvPr id="195" name="Line 26"/>
          <p:cNvSpPr/>
          <p:nvPr/>
        </p:nvSpPr>
        <p:spPr>
          <a:xfrm>
            <a:off x="1574640" y="1930320"/>
            <a:ext cx="0" cy="433440"/>
          </a:xfrm>
          <a:prstGeom prst="line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7"/>
          <p:cNvSpPr/>
          <p:nvPr/>
        </p:nvSpPr>
        <p:spPr>
          <a:xfrm>
            <a:off x="3879720" y="2075040"/>
            <a:ext cx="0" cy="431640"/>
          </a:xfrm>
          <a:prstGeom prst="line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28"/>
          <p:cNvSpPr/>
          <p:nvPr/>
        </p:nvSpPr>
        <p:spPr>
          <a:xfrm>
            <a:off x="5835600" y="2075040"/>
            <a:ext cx="0" cy="431640"/>
          </a:xfrm>
          <a:prstGeom prst="line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9"/>
          <p:cNvSpPr/>
          <p:nvPr/>
        </p:nvSpPr>
        <p:spPr>
          <a:xfrm>
            <a:off x="7391520" y="2057400"/>
            <a:ext cx="0" cy="433440"/>
          </a:xfrm>
          <a:prstGeom prst="line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30" descr="j0200265"/>
          <p:cNvPicPr/>
          <p:nvPr/>
        </p:nvPicPr>
        <p:blipFill>
          <a:blip r:embed="rId4"/>
          <a:stretch/>
        </p:blipFill>
        <p:spPr>
          <a:xfrm>
            <a:off x="1290600" y="5619600"/>
            <a:ext cx="633600" cy="559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1" descr="j0213345"/>
          <p:cNvPicPr/>
          <p:nvPr/>
        </p:nvPicPr>
        <p:blipFill>
          <a:blip r:embed="rId5"/>
          <a:stretch/>
        </p:blipFill>
        <p:spPr>
          <a:xfrm>
            <a:off x="7848720" y="5029200"/>
            <a:ext cx="691920" cy="533520"/>
          </a:xfrm>
          <a:prstGeom prst="rect">
            <a:avLst/>
          </a:prstGeom>
          <a:ln w="0">
            <a:noFill/>
          </a:ln>
        </p:spPr>
      </p:pic>
      <p:sp>
        <p:nvSpPr>
          <p:cNvPr id="201" name="Line 32"/>
          <p:cNvSpPr/>
          <p:nvPr/>
        </p:nvSpPr>
        <p:spPr>
          <a:xfrm flipV="1">
            <a:off x="1994040" y="5547960"/>
            <a:ext cx="0" cy="431640"/>
          </a:xfrm>
          <a:prstGeom prst="line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33"/>
          <p:cNvSpPr/>
          <p:nvPr/>
        </p:nvSpPr>
        <p:spPr>
          <a:xfrm flipH="1" flipV="1">
            <a:off x="7848360" y="4800600"/>
            <a:ext cx="222120" cy="171360"/>
          </a:xfrm>
          <a:prstGeom prst="line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7" descr="Office: Clipboard, Checklist"/>
          <p:cNvPicPr/>
          <p:nvPr/>
        </p:nvPicPr>
        <p:blipFill>
          <a:blip r:embed="rId6"/>
          <a:stretch/>
        </p:blipFill>
        <p:spPr>
          <a:xfrm>
            <a:off x="3657600" y="2514600"/>
            <a:ext cx="431640" cy="66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Object 6"/>
          <p:cNvGraphicFramePr/>
          <p:nvPr/>
        </p:nvGraphicFramePr>
        <p:xfrm>
          <a:off x="1295280" y="2438280"/>
          <a:ext cx="395280" cy="594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5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95280" y="2438280"/>
                    <a:ext cx="39528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6" name="Picture 5" descr="People: Group"/>
          <p:cNvPicPr/>
          <p:nvPr/>
        </p:nvPicPr>
        <p:blipFill>
          <a:blip r:embed="rId9"/>
          <a:stretch/>
        </p:blipFill>
        <p:spPr>
          <a:xfrm>
            <a:off x="5715000" y="2514600"/>
            <a:ext cx="47160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MS Project Security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ata may be controlled 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tim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Per Us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MS Project Security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to enable MS Project Secu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_AMG_RESOURCE_INFO_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column value that receives a “Y” indicates that MS Project integration will receive the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fault value is “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133720" y="2666880"/>
            <a:ext cx="5790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Personalizations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5462640" y="3673440"/>
            <a:ext cx="3376440" cy="257508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5"/>
          <p:cNvSpPr/>
          <p:nvPr/>
        </p:nvSpPr>
        <p:spPr>
          <a:xfrm>
            <a:off x="7543800" y="5257800"/>
            <a:ext cx="10666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Personalizations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the ability to modify specific HTML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s can be personalized at the following lev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Personalizations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HTML screen that you would like to modif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Personalize Page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of modifications that are possibl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order a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butt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2" descr=""/>
          <p:cNvPicPr/>
          <p:nvPr/>
        </p:nvPicPr>
        <p:blipFill>
          <a:blip r:embed="rId1"/>
          <a:stretch/>
        </p:blipFill>
        <p:spPr>
          <a:xfrm>
            <a:off x="685800" y="4851360"/>
            <a:ext cx="7848720" cy="132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Personalizations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enabling the following Personalize profile option, a HTML user will have access to the personalize featur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e Self-Service Defn = “Ye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1"/>
          <a:stretch/>
        </p:blipFill>
        <p:spPr>
          <a:xfrm>
            <a:off x="228600" y="4038480"/>
            <a:ext cx="8763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Navigate to the HTML form that needs modification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14" name="Picture 7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77240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Click Personalize 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16" name="Picture 6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77240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Enter the Personalization Page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153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Find the Personalization and click the edit pencil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0" name="Picture 7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30728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33720" y="2743200"/>
            <a:ext cx="62481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HTML versus Forms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52280" y="4572000"/>
            <a:ext cx="8763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Self Service Web Applications vs. Professional Fo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Determine where the personalization should be applied: Site, Org, Responsibility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2" name="Picture 9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381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croll down to the “Rendered” row- Set the value to False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4" name="Picture 4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861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Return to the Application and notice that the personalization…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1"/>
          <a:stretch/>
        </p:blipFill>
        <p:spPr>
          <a:xfrm>
            <a:off x="4572000" y="2666880"/>
            <a:ext cx="3809880" cy="32004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6" descr=""/>
          <p:cNvPicPr/>
          <p:nvPr/>
        </p:nvPicPr>
        <p:blipFill>
          <a:blip r:embed="rId2"/>
          <a:stretch/>
        </p:blipFill>
        <p:spPr>
          <a:xfrm>
            <a:off x="228600" y="2666880"/>
            <a:ext cx="3809880" cy="335304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8"/>
          <p:cNvSpPr/>
          <p:nvPr/>
        </p:nvSpPr>
        <p:spPr>
          <a:xfrm>
            <a:off x="137160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548640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Personalizations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 to enable Personal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“Personalize Self-Service Defn” profile option = “Ye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where a Personalization i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Personalize Page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appropriate Pers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the personalization to any of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27432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Configuration Considerations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Configuration Considerations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nd time to understand the range of security options within the Oracle Projects S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your user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will use Oracl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nformation they requ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hey us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 the number of roles to a manageabl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that Oracle provides multiple ways to achieve a security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Configuration Considerations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security matrix document that supports configuration, audit and ongoing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building and testing menus based on role based security, it is recommended to have access to bounce the Apach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/updates will not immediately appear unless Apache is bou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Quick Reference Configuration Guide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Security Options Matrix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9" name="Picture 8" descr=""/>
          <p:cNvPicPr/>
          <p:nvPr/>
        </p:nvPicPr>
        <p:blipFill>
          <a:blip r:embed="rId1"/>
          <a:stretch/>
        </p:blipFill>
        <p:spPr>
          <a:xfrm>
            <a:off x="1498680" y="1562040"/>
            <a:ext cx="61452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Projects Security Summary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1" name="Picture 4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610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HTML vs. Forms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is migrating away from Forms towards 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Projects suite is on the leading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gnificant % of the Oracle Projects suite is now in 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any cases, a function can be performed in both Forms and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features are sometimes related to either HTML or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Reference Material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Implementation Gu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ily Business Intelligence Implementation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Resources User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s Implementation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s Fundamentals User Gu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Management User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Management User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Management User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Contracts User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Contracts Implementation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s API, Client Extensions, Open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Function and Menu Security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 to create a function loaded m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e to System Administrator-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ther create a new menu or query an existin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/Remove Functions a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Responsibility Based Security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to create a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e to System Administrator –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: Forms vs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Reques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any function or menu ex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MO Security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 to configure MO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e to Human Resources- Security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ther create a new security profile or update an existing 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e to System Administrator – Profile System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appropriate value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R: Cross Busines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: Operating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: Security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PA Profile Options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to define the PA Profile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e to System Admin- Profile System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each of the following profiles an update a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: Cross Project User –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: Cross Project User –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: View All Project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JI: Organizational Security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User Profiles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to update a User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e to the appropriate responsibility; (Example: Project Billing Super User-  Other - 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the values for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profile with the appropriat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Project Access Level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to enable Project Level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vigate to Project Super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y a Project or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access level to eit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Organizational Authority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to enable Organizational Base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e to Project Billing Super User – Organizational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name of the user that needs organizational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organizations the user should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users authority for each Organization by checking the authority check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Role Based Security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to enable Role Base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e to Project Billing Super User- Setup- Project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new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Menu for Role base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appropriate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further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e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users to the roles in either HTML or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Security Extensions…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to create a Security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your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body and package resp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: PAPSECXB.p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: pa_security_ext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he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Live” with the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21:15:19Z</dcterms:created>
  <dc:creator/>
  <dc:description/>
  <dc:language>en-US</dc:language>
  <cp:lastModifiedBy>Deepak</cp:lastModifiedBy>
  <dcterms:modified xsi:type="dcterms:W3CDTF">2009-12-11T14:58:24Z</dcterms:modified>
  <cp:revision>130</cp:revision>
  <dc:subject/>
  <dc:title/>
</cp:coreProperties>
</file>